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3FA-45DC-4ED7-9D27-7B37F083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C2C-B5E9-4EE6-8335-BFEC5C0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407-94FF-4D74-9EA5-2047008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322-F8CB-46ED-A6BD-0B096D08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65C-93AE-4B62-93C6-0F177299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2098-98CB-40E8-870A-D23B9F4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9392-7561-41F7-ACC9-98AB78C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6471-9276-4D40-A513-E0FA0E7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7EBA-643A-4CE0-80E4-BD037A77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5076-8315-4B50-8193-B50AFDD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505B-AD5F-49EA-9D28-D4CE08B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E4D-A4AC-4EA6-9F31-DDFCFBC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8D5-9ADF-405F-A4BF-BDFC374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FE6B-3742-4E17-9731-05771D6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BCE-2BC9-4F7D-AD54-96B213E2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4BC-FE3B-4498-BFCB-86A69D1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6D1D-6751-4A31-9B95-E26D7C8F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C0A-CD6C-4755-B527-0B24E22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8DA-F249-42C8-8482-309BBC99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337-F2C6-469D-BC74-977ED1E4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F32-7423-4155-BC3F-BF0E251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075-8AF3-4AF6-929B-863F987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45C-4CAF-45B0-A33C-FF6AA31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401-3BCC-45C0-8564-ED16D81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B9B-BBEE-4AAD-B2DE-8133F08E2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E1D5-D00D-4D1B-9CEF-F3816C3C59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epresent inequalities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olve simple linear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phically re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&gt;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&lt;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≥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is more than 5  x is less than 4   x is smaller th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x is greater 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equal to 2                 or equal to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84360" y="4076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6450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640" y="4076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933720"/>
            <a:ext cx="180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3645000"/>
            <a:ext cx="14436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716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68360" y="40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14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2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3645000"/>
            <a:ext cx="14472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44720" y="40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3933720"/>
            <a:ext cx="14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3645000"/>
            <a:ext cx="14436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744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618920" y="465300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ow circle indicates that the number is not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5516640"/>
            <a:ext cx="2808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lled circle indicates that the number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300720" y="4581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076720" y="4436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40000" y="472428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uble my age, the answer is more than 50. How old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x is my age, form and solve an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ree integer values that satisfy your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3240" y="3348000"/>
            <a:ext cx="527040" cy="295200"/>
          </a:xfrm>
          <a:custGeom>
            <a:avLst/>
            <a:gdLst/>
            <a:ahLst/>
            <a:rect l="l" t="t" r="r" b="b"/>
            <a:pathLst>
              <a:path w="1464" h="819">
                <a:moveTo>
                  <a:pt x="8310" y="9475"/>
                </a:moveTo>
                <a:cubicBezTo>
                  <a:pt x="8310" y="9500"/>
                  <a:pt x="8310" y="9508"/>
                  <a:pt x="8285" y="9500"/>
                </a:cubicBezTo>
                <a:cubicBezTo>
                  <a:pt x="8242" y="9486"/>
                  <a:pt x="8256" y="9445"/>
                  <a:pt x="8285" y="9401"/>
                </a:cubicBezTo>
                <a:cubicBezTo>
                  <a:pt x="8317" y="9353"/>
                  <a:pt x="8431" y="9311"/>
                  <a:pt x="8483" y="9302"/>
                </a:cubicBezTo>
                <a:cubicBezTo>
                  <a:pt x="8546" y="9292"/>
                  <a:pt x="8641" y="9292"/>
                  <a:pt x="8682" y="9351"/>
                </a:cubicBezTo>
                <a:cubicBezTo>
                  <a:pt x="8735" y="9425"/>
                  <a:pt x="8703" y="9545"/>
                  <a:pt x="8682" y="9624"/>
                </a:cubicBezTo>
                <a:cubicBezTo>
                  <a:pt x="8657" y="9716"/>
                  <a:pt x="8593" y="9801"/>
                  <a:pt x="8533" y="9872"/>
                </a:cubicBezTo>
                <a:cubicBezTo>
                  <a:pt x="8484" y="9931"/>
                  <a:pt x="8449" y="9969"/>
                  <a:pt x="8434" y="10046"/>
                </a:cubicBezTo>
                <a:cubicBezTo>
                  <a:pt x="8500" y="10046"/>
                  <a:pt x="8545" y="10035"/>
                  <a:pt x="8607" y="10021"/>
                </a:cubicBezTo>
                <a:cubicBezTo>
                  <a:pt x="8680" y="10004"/>
                  <a:pt x="8734" y="10027"/>
                  <a:pt x="8806" y="9996"/>
                </a:cubicBezTo>
              </a:path>
              <a:path w="1464" h="819">
                <a:moveTo>
                  <a:pt x="9128" y="9773"/>
                </a:moveTo>
                <a:cubicBezTo>
                  <a:pt x="9134" y="9754"/>
                  <a:pt x="9173" y="9729"/>
                  <a:pt x="9203" y="9723"/>
                </a:cubicBezTo>
                <a:cubicBezTo>
                  <a:pt x="9258" y="9711"/>
                  <a:pt x="9339" y="9768"/>
                  <a:pt x="9351" y="9823"/>
                </a:cubicBezTo>
                <a:cubicBezTo>
                  <a:pt x="9368" y="9898"/>
                  <a:pt x="9357" y="10002"/>
                  <a:pt x="9327" y="10071"/>
                </a:cubicBezTo>
                <a:cubicBezTo>
                  <a:pt x="9297" y="10140"/>
                  <a:pt x="9272" y="10120"/>
                  <a:pt x="9203" y="10120"/>
                </a:cubicBezTo>
                <a:cubicBezTo>
                  <a:pt x="9186" y="10120"/>
                  <a:pt x="9170" y="10120"/>
                  <a:pt x="9153" y="10120"/>
                </a:cubicBezTo>
              </a:path>
              <a:path w="1464" h="819">
                <a:moveTo>
                  <a:pt x="9624" y="9823"/>
                </a:moveTo>
                <a:cubicBezTo>
                  <a:pt x="9666" y="9781"/>
                  <a:pt x="9674" y="9773"/>
                  <a:pt x="9699" y="9748"/>
                </a:cubicBezTo>
                <a:cubicBezTo>
                  <a:pt x="9632" y="9758"/>
                  <a:pt x="9571" y="9787"/>
                  <a:pt x="9525" y="9847"/>
                </a:cubicBezTo>
                <a:cubicBezTo>
                  <a:pt x="9468" y="9921"/>
                  <a:pt x="9465" y="9989"/>
                  <a:pt x="9500" y="10071"/>
                </a:cubicBezTo>
                <a:cubicBezTo>
                  <a:pt x="9526" y="10133"/>
                  <a:pt x="9608" y="10138"/>
                  <a:pt x="9674" y="10120"/>
                </a:cubicBezTo>
                <a:cubicBezTo>
                  <a:pt x="9690" y="10112"/>
                  <a:pt x="9707" y="10104"/>
                  <a:pt x="972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9040" y="345600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1237" y="9823"/>
                </a:moveTo>
                <a:cubicBezTo>
                  <a:pt x="11237" y="9815"/>
                  <a:pt x="11237" y="9806"/>
                  <a:pt x="11237" y="9798"/>
                </a:cubicBezTo>
                <a:cubicBezTo>
                  <a:pt x="11176" y="9813"/>
                  <a:pt x="11141" y="9861"/>
                  <a:pt x="11088" y="9897"/>
                </a:cubicBezTo>
                <a:cubicBezTo>
                  <a:pt x="11032" y="9934"/>
                  <a:pt x="10990" y="9975"/>
                  <a:pt x="10939" y="10021"/>
                </a:cubicBezTo>
                <a:cubicBezTo>
                  <a:pt x="10931" y="10029"/>
                  <a:pt x="10922" y="10038"/>
                  <a:pt x="10914" y="10046"/>
                </a:cubicBezTo>
              </a:path>
              <a:path w="398" h="448">
                <a:moveTo>
                  <a:pt x="11311" y="9798"/>
                </a:moveTo>
                <a:cubicBezTo>
                  <a:pt x="11252" y="9798"/>
                  <a:pt x="11259" y="9761"/>
                  <a:pt x="11212" y="9748"/>
                </a:cubicBezTo>
                <a:cubicBezTo>
                  <a:pt x="11142" y="9728"/>
                  <a:pt x="11104" y="9709"/>
                  <a:pt x="11038" y="9674"/>
                </a:cubicBezTo>
                <a:cubicBezTo>
                  <a:pt x="10993" y="9650"/>
                  <a:pt x="10974" y="9634"/>
                  <a:pt x="10939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46720" y="3438360"/>
            <a:ext cx="474480" cy="249480"/>
          </a:xfrm>
          <a:custGeom>
            <a:avLst/>
            <a:gdLst/>
            <a:ahLst/>
            <a:rect l="l" t="t" r="r" b="b"/>
            <a:pathLst>
              <a:path w="1315" h="695">
                <a:moveTo>
                  <a:pt x="12477" y="9550"/>
                </a:moveTo>
                <a:cubicBezTo>
                  <a:pt x="12428" y="9562"/>
                  <a:pt x="12405" y="9604"/>
                  <a:pt x="12378" y="9649"/>
                </a:cubicBezTo>
                <a:cubicBezTo>
                  <a:pt x="12344" y="9707"/>
                  <a:pt x="12337" y="9772"/>
                  <a:pt x="12378" y="9823"/>
                </a:cubicBezTo>
                <a:cubicBezTo>
                  <a:pt x="12429" y="9887"/>
                  <a:pt x="12508" y="9868"/>
                  <a:pt x="12576" y="9897"/>
                </a:cubicBezTo>
                <a:cubicBezTo>
                  <a:pt x="12652" y="9929"/>
                  <a:pt x="12742" y="9961"/>
                  <a:pt x="12774" y="10046"/>
                </a:cubicBezTo>
                <a:cubicBezTo>
                  <a:pt x="12794" y="10098"/>
                  <a:pt x="12779" y="10181"/>
                  <a:pt x="12725" y="10195"/>
                </a:cubicBezTo>
                <a:cubicBezTo>
                  <a:pt x="12635" y="10218"/>
                  <a:pt x="12484" y="10205"/>
                  <a:pt x="12402" y="10170"/>
                </a:cubicBezTo>
                <a:cubicBezTo>
                  <a:pt x="12386" y="10162"/>
                  <a:pt x="12369" y="10153"/>
                  <a:pt x="12353" y="10145"/>
                </a:cubicBezTo>
              </a:path>
              <a:path w="1315" h="695">
                <a:moveTo>
                  <a:pt x="12898" y="9575"/>
                </a:moveTo>
                <a:cubicBezTo>
                  <a:pt x="12886" y="9537"/>
                  <a:pt x="12869" y="9550"/>
                  <a:pt x="12824" y="9550"/>
                </a:cubicBezTo>
                <a:cubicBezTo>
                  <a:pt x="12725" y="9550"/>
                  <a:pt x="12625" y="9550"/>
                  <a:pt x="12526" y="9550"/>
                </a:cubicBezTo>
              </a:path>
              <a:path w="1315" h="695">
                <a:moveTo>
                  <a:pt x="13171" y="9823"/>
                </a:moveTo>
                <a:cubicBezTo>
                  <a:pt x="13116" y="9805"/>
                  <a:pt x="13158" y="9787"/>
                  <a:pt x="13171" y="9748"/>
                </a:cubicBezTo>
                <a:cubicBezTo>
                  <a:pt x="13182" y="9714"/>
                  <a:pt x="13226" y="9698"/>
                  <a:pt x="13271" y="9674"/>
                </a:cubicBezTo>
                <a:cubicBezTo>
                  <a:pt x="13343" y="9636"/>
                  <a:pt x="13403" y="9650"/>
                  <a:pt x="13469" y="9624"/>
                </a:cubicBezTo>
                <a:cubicBezTo>
                  <a:pt x="13506" y="9610"/>
                  <a:pt x="13579" y="9588"/>
                  <a:pt x="13618" y="9624"/>
                </a:cubicBezTo>
                <a:cubicBezTo>
                  <a:pt x="13671" y="9673"/>
                  <a:pt x="13667" y="9759"/>
                  <a:pt x="13667" y="9823"/>
                </a:cubicBezTo>
                <a:cubicBezTo>
                  <a:pt x="13667" y="9952"/>
                  <a:pt x="13655" y="10007"/>
                  <a:pt x="13593" y="10120"/>
                </a:cubicBezTo>
                <a:cubicBezTo>
                  <a:pt x="13540" y="10217"/>
                  <a:pt x="13503" y="10239"/>
                  <a:pt x="13395" y="10244"/>
                </a:cubicBezTo>
                <a:cubicBezTo>
                  <a:pt x="13310" y="10248"/>
                  <a:pt x="13255" y="10200"/>
                  <a:pt x="13196" y="10145"/>
                </a:cubicBezTo>
                <a:cubicBezTo>
                  <a:pt x="13132" y="10085"/>
                  <a:pt x="13132" y="9985"/>
                  <a:pt x="13146" y="9897"/>
                </a:cubicBezTo>
                <a:cubicBezTo>
                  <a:pt x="13171" y="9797"/>
                  <a:pt x="13181" y="9763"/>
                  <a:pt x="13246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9080" y="3990960"/>
            <a:ext cx="285840" cy="152280"/>
          </a:xfrm>
          <a:custGeom>
            <a:avLst/>
            <a:gdLst/>
            <a:ahLst/>
            <a:rect l="l" t="t" r="r" b="b"/>
            <a:pathLst>
              <a:path w="794" h="422">
                <a:moveTo>
                  <a:pt x="9079" y="11162"/>
                </a:moveTo>
                <a:cubicBezTo>
                  <a:pt x="9055" y="11150"/>
                  <a:pt x="9085" y="11100"/>
                  <a:pt x="9128" y="11088"/>
                </a:cubicBezTo>
                <a:cubicBezTo>
                  <a:pt x="9173" y="11075"/>
                  <a:pt x="9292" y="11077"/>
                  <a:pt x="9327" y="11112"/>
                </a:cubicBezTo>
                <a:cubicBezTo>
                  <a:pt x="9371" y="11156"/>
                  <a:pt x="9411" y="11277"/>
                  <a:pt x="9401" y="11336"/>
                </a:cubicBezTo>
                <a:cubicBezTo>
                  <a:pt x="9390" y="11399"/>
                  <a:pt x="9344" y="11469"/>
                  <a:pt x="9277" y="11485"/>
                </a:cubicBezTo>
                <a:cubicBezTo>
                  <a:pt x="9234" y="11495"/>
                  <a:pt x="9172" y="11485"/>
                  <a:pt x="9128" y="11485"/>
                </a:cubicBezTo>
              </a:path>
              <a:path w="794" h="422">
                <a:moveTo>
                  <a:pt x="9649" y="11137"/>
                </a:moveTo>
                <a:cubicBezTo>
                  <a:pt x="9711" y="11110"/>
                  <a:pt x="9743" y="11097"/>
                  <a:pt x="9674" y="11137"/>
                </a:cubicBezTo>
                <a:cubicBezTo>
                  <a:pt x="9607" y="11176"/>
                  <a:pt x="9543" y="11229"/>
                  <a:pt x="9525" y="11311"/>
                </a:cubicBezTo>
                <a:cubicBezTo>
                  <a:pt x="9506" y="11398"/>
                  <a:pt x="9557" y="11450"/>
                  <a:pt x="9624" y="11485"/>
                </a:cubicBezTo>
                <a:cubicBezTo>
                  <a:pt x="9702" y="11526"/>
                  <a:pt x="9768" y="11511"/>
                  <a:pt x="9847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3983040"/>
            <a:ext cx="1332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  <a:cubicBezTo>
                  <a:pt x="11423" y="11308"/>
                  <a:pt x="11377" y="11353"/>
                  <a:pt x="11336" y="11385"/>
                </a:cubicBezTo>
                <a:cubicBezTo>
                  <a:pt x="11261" y="11443"/>
                  <a:pt x="11223" y="11492"/>
                  <a:pt x="11162" y="11559"/>
                </a:cubicBezTo>
                <a:cubicBezTo>
                  <a:pt x="11154" y="11567"/>
                  <a:pt x="11145" y="11576"/>
                  <a:pt x="11137" y="11584"/>
                </a:cubicBezTo>
              </a:path>
              <a:path w="373" h="522">
                <a:moveTo>
                  <a:pt x="11509" y="11162"/>
                </a:moveTo>
                <a:cubicBezTo>
                  <a:pt x="11463" y="11126"/>
                  <a:pt x="11438" y="11155"/>
                  <a:pt x="11385" y="11137"/>
                </a:cubicBezTo>
                <a:cubicBezTo>
                  <a:pt x="11316" y="11114"/>
                  <a:pt x="11247" y="11120"/>
                  <a:pt x="11187" y="11088"/>
                </a:cubicBezTo>
                <a:cubicBezTo>
                  <a:pt x="11170" y="11080"/>
                  <a:pt x="11154" y="11071"/>
                  <a:pt x="11137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9080" y="3956040"/>
            <a:ext cx="625680" cy="276120"/>
          </a:xfrm>
          <a:custGeom>
            <a:avLst/>
            <a:gdLst/>
            <a:ahLst/>
            <a:rect l="l" t="t" r="r" b="b"/>
            <a:pathLst>
              <a:path w="1737" h="770">
                <a:moveTo>
                  <a:pt x="12353" y="11162"/>
                </a:moveTo>
                <a:cubicBezTo>
                  <a:pt x="12330" y="11139"/>
                  <a:pt x="12326" y="11131"/>
                  <a:pt x="12303" y="11137"/>
                </a:cubicBezTo>
                <a:cubicBezTo>
                  <a:pt x="12303" y="11093"/>
                  <a:pt x="12309" y="11088"/>
                  <a:pt x="12328" y="11063"/>
                </a:cubicBezTo>
                <a:cubicBezTo>
                  <a:pt x="12361" y="11019"/>
                  <a:pt x="12447" y="10976"/>
                  <a:pt x="12502" y="10988"/>
                </a:cubicBezTo>
                <a:cubicBezTo>
                  <a:pt x="12590" y="11008"/>
                  <a:pt x="12598" y="11118"/>
                  <a:pt x="12601" y="11187"/>
                </a:cubicBezTo>
                <a:cubicBezTo>
                  <a:pt x="12605" y="11296"/>
                  <a:pt x="12596" y="11371"/>
                  <a:pt x="12526" y="11460"/>
                </a:cubicBezTo>
                <a:cubicBezTo>
                  <a:pt x="12484" y="11513"/>
                  <a:pt x="12425" y="11536"/>
                  <a:pt x="12378" y="11584"/>
                </a:cubicBezTo>
                <a:cubicBezTo>
                  <a:pt x="12433" y="11584"/>
                  <a:pt x="12499" y="11571"/>
                  <a:pt x="12551" y="11559"/>
                </a:cubicBezTo>
                <a:cubicBezTo>
                  <a:pt x="12649" y="11536"/>
                  <a:pt x="12687" y="11543"/>
                  <a:pt x="12774" y="11559"/>
                </a:cubicBezTo>
                <a:cubicBezTo>
                  <a:pt x="12819" y="11559"/>
                  <a:pt x="12832" y="11556"/>
                  <a:pt x="12849" y="11584"/>
                </a:cubicBezTo>
              </a:path>
              <a:path w="1737" h="770">
                <a:moveTo>
                  <a:pt x="13320" y="11212"/>
                </a:moveTo>
                <a:cubicBezTo>
                  <a:pt x="13359" y="11173"/>
                  <a:pt x="13361" y="11156"/>
                  <a:pt x="13395" y="11162"/>
                </a:cubicBezTo>
                <a:cubicBezTo>
                  <a:pt x="13352" y="11205"/>
                  <a:pt x="13288" y="11226"/>
                  <a:pt x="13271" y="11286"/>
                </a:cubicBezTo>
                <a:cubicBezTo>
                  <a:pt x="13256" y="11336"/>
                  <a:pt x="13305" y="11421"/>
                  <a:pt x="13345" y="11435"/>
                </a:cubicBezTo>
                <a:cubicBezTo>
                  <a:pt x="13421" y="11462"/>
                  <a:pt x="13489" y="11470"/>
                  <a:pt x="13568" y="11509"/>
                </a:cubicBezTo>
                <a:cubicBezTo>
                  <a:pt x="13643" y="11546"/>
                  <a:pt x="13643" y="11580"/>
                  <a:pt x="13643" y="11658"/>
                </a:cubicBezTo>
                <a:cubicBezTo>
                  <a:pt x="13643" y="11737"/>
                  <a:pt x="13592" y="11745"/>
                  <a:pt x="13519" y="11757"/>
                </a:cubicBezTo>
                <a:cubicBezTo>
                  <a:pt x="13431" y="11771"/>
                  <a:pt x="13327" y="11763"/>
                  <a:pt x="13246" y="11733"/>
                </a:cubicBezTo>
              </a:path>
              <a:path w="1737" h="770">
                <a:moveTo>
                  <a:pt x="14039" y="11088"/>
                </a:moveTo>
                <a:cubicBezTo>
                  <a:pt x="13961" y="11088"/>
                  <a:pt x="13916" y="11115"/>
                  <a:pt x="13841" y="11137"/>
                </a:cubicBezTo>
                <a:cubicBezTo>
                  <a:pt x="13749" y="11164"/>
                  <a:pt x="13660" y="11166"/>
                  <a:pt x="1356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68800" y="4357800"/>
            <a:ext cx="1357200" cy="401400"/>
          </a:xfrm>
          <a:custGeom>
            <a:avLst/>
            <a:gdLst/>
            <a:ahLst/>
            <a:rect l="l" t="t" r="r" b="b"/>
            <a:pathLst>
              <a:path w="3771" h="1117">
                <a:moveTo>
                  <a:pt x="9153" y="12353"/>
                </a:moveTo>
                <a:cubicBezTo>
                  <a:pt x="9128" y="12353"/>
                  <a:pt x="9104" y="12353"/>
                  <a:pt x="9079" y="12353"/>
                </a:cubicBezTo>
                <a:cubicBezTo>
                  <a:pt x="9116" y="12315"/>
                  <a:pt x="9142" y="12285"/>
                  <a:pt x="9203" y="12303"/>
                </a:cubicBezTo>
                <a:cubicBezTo>
                  <a:pt x="9304" y="12333"/>
                  <a:pt x="9323" y="12412"/>
                  <a:pt x="9327" y="12502"/>
                </a:cubicBezTo>
                <a:cubicBezTo>
                  <a:pt x="9331" y="12583"/>
                  <a:pt x="9273" y="12622"/>
                  <a:pt x="9203" y="12626"/>
                </a:cubicBezTo>
                <a:cubicBezTo>
                  <a:pt x="9162" y="12628"/>
                  <a:pt x="9120" y="12626"/>
                  <a:pt x="9079" y="12626"/>
                </a:cubicBezTo>
              </a:path>
              <a:path w="3771" h="1117">
                <a:moveTo>
                  <a:pt x="9376" y="12353"/>
                </a:moveTo>
                <a:cubicBezTo>
                  <a:pt x="9378" y="12352"/>
                  <a:pt x="9557" y="12218"/>
                  <a:pt x="9451" y="12278"/>
                </a:cubicBezTo>
                <a:cubicBezTo>
                  <a:pt x="9397" y="12308"/>
                  <a:pt x="9379" y="12399"/>
                  <a:pt x="9376" y="12452"/>
                </a:cubicBezTo>
                <a:cubicBezTo>
                  <a:pt x="9371" y="12545"/>
                  <a:pt x="9447" y="12572"/>
                  <a:pt x="9525" y="12576"/>
                </a:cubicBezTo>
                <a:cubicBezTo>
                  <a:pt x="9593" y="12580"/>
                  <a:pt x="9637" y="12572"/>
                  <a:pt x="9699" y="12551"/>
                </a:cubicBezTo>
              </a:path>
              <a:path w="3771" h="1117">
                <a:moveTo>
                  <a:pt x="11088" y="12452"/>
                </a:moveTo>
                <a:cubicBezTo>
                  <a:pt x="11112" y="12427"/>
                  <a:pt x="11120" y="12418"/>
                  <a:pt x="11137" y="12402"/>
                </a:cubicBezTo>
                <a:cubicBezTo>
                  <a:pt x="11098" y="12442"/>
                  <a:pt x="11047" y="12482"/>
                  <a:pt x="11013" y="12526"/>
                </a:cubicBezTo>
                <a:cubicBezTo>
                  <a:pt x="10970" y="12582"/>
                  <a:pt x="10890" y="12660"/>
                  <a:pt x="10864" y="12725"/>
                </a:cubicBezTo>
                <a:cubicBezTo>
                  <a:pt x="10864" y="12733"/>
                  <a:pt x="10864" y="12742"/>
                  <a:pt x="10864" y="12750"/>
                </a:cubicBezTo>
              </a:path>
              <a:path w="3771" h="1117">
                <a:moveTo>
                  <a:pt x="11112" y="12427"/>
                </a:moveTo>
                <a:cubicBezTo>
                  <a:pt x="11112" y="12402"/>
                  <a:pt x="11112" y="12394"/>
                  <a:pt x="11112" y="12378"/>
                </a:cubicBezTo>
                <a:cubicBezTo>
                  <a:pt x="11079" y="12369"/>
                  <a:pt x="11016" y="12345"/>
                  <a:pt x="10988" y="12328"/>
                </a:cubicBezTo>
                <a:cubicBezTo>
                  <a:pt x="10945" y="12302"/>
                  <a:pt x="10917" y="12303"/>
                  <a:pt x="10864" y="12303"/>
                </a:cubicBezTo>
                <a:cubicBezTo>
                  <a:pt x="10856" y="12303"/>
                  <a:pt x="10848" y="12303"/>
                  <a:pt x="10840" y="12303"/>
                </a:cubicBezTo>
              </a:path>
              <a:path w="3771" h="1117">
                <a:moveTo>
                  <a:pt x="11385" y="12526"/>
                </a:moveTo>
                <a:cubicBezTo>
                  <a:pt x="11320" y="12543"/>
                  <a:pt x="11332" y="12586"/>
                  <a:pt x="11286" y="12626"/>
                </a:cubicBezTo>
                <a:cubicBezTo>
                  <a:pt x="11223" y="12680"/>
                  <a:pt x="11207" y="12714"/>
                  <a:pt x="11187" y="12799"/>
                </a:cubicBezTo>
                <a:cubicBezTo>
                  <a:pt x="11187" y="12807"/>
                  <a:pt x="11187" y="12816"/>
                  <a:pt x="11187" y="12824"/>
                </a:cubicBezTo>
              </a:path>
              <a:path w="3771" h="1117">
                <a:moveTo>
                  <a:pt x="11733" y="12402"/>
                </a:moveTo>
                <a:cubicBezTo>
                  <a:pt x="11695" y="12390"/>
                  <a:pt x="11708" y="12373"/>
                  <a:pt x="11708" y="12328"/>
                </a:cubicBezTo>
                <a:cubicBezTo>
                  <a:pt x="11751" y="12328"/>
                  <a:pt x="11795" y="12293"/>
                  <a:pt x="11832" y="12303"/>
                </a:cubicBezTo>
                <a:cubicBezTo>
                  <a:pt x="11909" y="12324"/>
                  <a:pt x="11906" y="12362"/>
                  <a:pt x="11906" y="12427"/>
                </a:cubicBezTo>
                <a:cubicBezTo>
                  <a:pt x="11906" y="12491"/>
                  <a:pt x="11862" y="12542"/>
                  <a:pt x="11832" y="12601"/>
                </a:cubicBezTo>
                <a:cubicBezTo>
                  <a:pt x="11810" y="12645"/>
                  <a:pt x="11762" y="12680"/>
                  <a:pt x="11757" y="12725"/>
                </a:cubicBezTo>
                <a:cubicBezTo>
                  <a:pt x="11757" y="12733"/>
                  <a:pt x="11757" y="12742"/>
                  <a:pt x="11757" y="12750"/>
                </a:cubicBezTo>
                <a:cubicBezTo>
                  <a:pt x="11814" y="12750"/>
                  <a:pt x="11854" y="12734"/>
                  <a:pt x="11906" y="12725"/>
                </a:cubicBezTo>
                <a:cubicBezTo>
                  <a:pt x="11984" y="12712"/>
                  <a:pt x="12075" y="12725"/>
                  <a:pt x="12154" y="12725"/>
                </a:cubicBezTo>
              </a:path>
              <a:path w="3771" h="1117">
                <a:moveTo>
                  <a:pt x="12477" y="12303"/>
                </a:moveTo>
                <a:cubicBezTo>
                  <a:pt x="12516" y="12244"/>
                  <a:pt x="12545" y="12206"/>
                  <a:pt x="12502" y="12254"/>
                </a:cubicBezTo>
                <a:cubicBezTo>
                  <a:pt x="12453" y="12314"/>
                  <a:pt x="12427" y="12378"/>
                  <a:pt x="12402" y="12452"/>
                </a:cubicBezTo>
                <a:cubicBezTo>
                  <a:pt x="12363" y="12567"/>
                  <a:pt x="12372" y="12608"/>
                  <a:pt x="12427" y="12700"/>
                </a:cubicBezTo>
                <a:cubicBezTo>
                  <a:pt x="12462" y="12757"/>
                  <a:pt x="12528" y="12771"/>
                  <a:pt x="12601" y="12750"/>
                </a:cubicBezTo>
                <a:cubicBezTo>
                  <a:pt x="12653" y="12735"/>
                  <a:pt x="12688" y="12696"/>
                  <a:pt x="12700" y="12650"/>
                </a:cubicBezTo>
                <a:cubicBezTo>
                  <a:pt x="12642" y="12626"/>
                  <a:pt x="12614" y="12626"/>
                  <a:pt x="12551" y="12626"/>
                </a:cubicBezTo>
                <a:cubicBezTo>
                  <a:pt x="12535" y="12626"/>
                  <a:pt x="12518" y="12626"/>
                  <a:pt x="12502" y="12626"/>
                </a:cubicBezTo>
              </a:path>
              <a:path w="3771" h="1117">
                <a:moveTo>
                  <a:pt x="12402" y="12129"/>
                </a:moveTo>
                <a:cubicBezTo>
                  <a:pt x="12427" y="12129"/>
                  <a:pt x="12435" y="12129"/>
                  <a:pt x="12427" y="12105"/>
                </a:cubicBezTo>
                <a:cubicBezTo>
                  <a:pt x="12374" y="12111"/>
                  <a:pt x="12355" y="12100"/>
                  <a:pt x="12303" y="12129"/>
                </a:cubicBezTo>
                <a:cubicBezTo>
                  <a:pt x="12117" y="12234"/>
                  <a:pt x="11964" y="12391"/>
                  <a:pt x="11782" y="12502"/>
                </a:cubicBezTo>
                <a:cubicBezTo>
                  <a:pt x="11646" y="12585"/>
                  <a:pt x="11507" y="12668"/>
                  <a:pt x="11385" y="12774"/>
                </a:cubicBezTo>
                <a:cubicBezTo>
                  <a:pt x="11284" y="12862"/>
                  <a:pt x="11185" y="12955"/>
                  <a:pt x="11088" y="13047"/>
                </a:cubicBezTo>
                <a:cubicBezTo>
                  <a:pt x="11024" y="13108"/>
                  <a:pt x="11003" y="13163"/>
                  <a:pt x="10939" y="13221"/>
                </a:cubicBezTo>
              </a:path>
              <a:path w="3771" h="1117">
                <a:moveTo>
                  <a:pt x="12849" y="12824"/>
                </a:moveTo>
                <a:cubicBezTo>
                  <a:pt x="12821" y="12808"/>
                  <a:pt x="12757" y="12770"/>
                  <a:pt x="12700" y="12750"/>
                </a:cubicBezTo>
                <a:cubicBezTo>
                  <a:pt x="12528" y="12691"/>
                  <a:pt x="12358" y="12636"/>
                  <a:pt x="12179" y="12601"/>
                </a:cubicBezTo>
                <a:cubicBezTo>
                  <a:pt x="11949" y="12557"/>
                  <a:pt x="11716" y="12511"/>
                  <a:pt x="11485" y="12477"/>
                </a:cubicBezTo>
                <a:cubicBezTo>
                  <a:pt x="11203" y="12435"/>
                  <a:pt x="10924" y="12429"/>
                  <a:pt x="10641" y="12402"/>
                </a:cubicBezTo>
                <a:cubicBezTo>
                  <a:pt x="10409" y="12380"/>
                  <a:pt x="10177" y="12372"/>
                  <a:pt x="9947" y="12353"/>
                </a:cubicBezTo>
                <a:cubicBezTo>
                  <a:pt x="9878" y="12347"/>
                  <a:pt x="9816" y="12337"/>
                  <a:pt x="9748" y="12328"/>
                </a:cubicBezTo>
                <a:cubicBezTo>
                  <a:pt x="9740" y="12328"/>
                  <a:pt x="9731" y="12328"/>
                  <a:pt x="9723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86080" y="5081760"/>
            <a:ext cx="3841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9178" y="14461"/>
                </a:moveTo>
                <a:cubicBezTo>
                  <a:pt x="9151" y="14497"/>
                  <a:pt x="9161" y="14500"/>
                  <a:pt x="9128" y="14511"/>
                </a:cubicBezTo>
                <a:cubicBezTo>
                  <a:pt x="9128" y="14461"/>
                  <a:pt x="9119" y="14426"/>
                  <a:pt x="9153" y="14387"/>
                </a:cubicBezTo>
                <a:cubicBezTo>
                  <a:pt x="9219" y="14311"/>
                  <a:pt x="9292" y="14226"/>
                  <a:pt x="9401" y="14238"/>
                </a:cubicBezTo>
                <a:cubicBezTo>
                  <a:pt x="9539" y="14253"/>
                  <a:pt x="9542" y="14341"/>
                  <a:pt x="9525" y="14461"/>
                </a:cubicBezTo>
                <a:cubicBezTo>
                  <a:pt x="9505" y="14600"/>
                  <a:pt x="9423" y="14632"/>
                  <a:pt x="9351" y="14734"/>
                </a:cubicBezTo>
                <a:cubicBezTo>
                  <a:pt x="9317" y="14782"/>
                  <a:pt x="9265" y="14804"/>
                  <a:pt x="9252" y="14858"/>
                </a:cubicBezTo>
                <a:cubicBezTo>
                  <a:pt x="9306" y="14817"/>
                  <a:pt x="9354" y="14811"/>
                  <a:pt x="9426" y="14808"/>
                </a:cubicBezTo>
                <a:cubicBezTo>
                  <a:pt x="9499" y="14804"/>
                  <a:pt x="9554" y="14824"/>
                  <a:pt x="9624" y="14833"/>
                </a:cubicBezTo>
              </a:path>
              <a:path w="1068" h="745">
                <a:moveTo>
                  <a:pt x="10071" y="14238"/>
                </a:moveTo>
                <a:cubicBezTo>
                  <a:pt x="10125" y="14165"/>
                  <a:pt x="10150" y="14165"/>
                  <a:pt x="10145" y="14114"/>
                </a:cubicBezTo>
                <a:cubicBezTo>
                  <a:pt x="10034" y="14198"/>
                  <a:pt x="10006" y="14276"/>
                  <a:pt x="9971" y="14412"/>
                </a:cubicBezTo>
                <a:cubicBezTo>
                  <a:pt x="9943" y="14518"/>
                  <a:pt x="9937" y="14689"/>
                  <a:pt x="10046" y="14759"/>
                </a:cubicBezTo>
                <a:cubicBezTo>
                  <a:pt x="10110" y="14800"/>
                  <a:pt x="10217" y="14776"/>
                  <a:pt x="10195" y="14684"/>
                </a:cubicBezTo>
                <a:cubicBezTo>
                  <a:pt x="10174" y="14595"/>
                  <a:pt x="10095" y="14593"/>
                  <a:pt x="10021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3960" y="5180040"/>
            <a:ext cx="662040" cy="347760"/>
          </a:xfrm>
          <a:custGeom>
            <a:avLst/>
            <a:gdLst/>
            <a:ahLst/>
            <a:rect l="l" t="t" r="r" b="b"/>
            <a:pathLst>
              <a:path w="1837" h="968">
                <a:moveTo>
                  <a:pt x="11137" y="15081"/>
                </a:moveTo>
                <a:cubicBezTo>
                  <a:pt x="11137" y="15073"/>
                  <a:pt x="11137" y="15064"/>
                  <a:pt x="11137" y="15056"/>
                </a:cubicBezTo>
                <a:cubicBezTo>
                  <a:pt x="11098" y="15105"/>
                  <a:pt x="11042" y="15177"/>
                  <a:pt x="11013" y="15230"/>
                </a:cubicBezTo>
                <a:cubicBezTo>
                  <a:pt x="11013" y="15238"/>
                  <a:pt x="11013" y="15247"/>
                  <a:pt x="11013" y="15255"/>
                </a:cubicBezTo>
              </a:path>
              <a:path w="1837" h="968">
                <a:moveTo>
                  <a:pt x="11609" y="14560"/>
                </a:moveTo>
                <a:cubicBezTo>
                  <a:pt x="11581" y="14560"/>
                  <a:pt x="11570" y="14558"/>
                  <a:pt x="11559" y="14536"/>
                </a:cubicBezTo>
                <a:cubicBezTo>
                  <a:pt x="11605" y="14490"/>
                  <a:pt x="11623" y="14439"/>
                  <a:pt x="11683" y="14412"/>
                </a:cubicBezTo>
                <a:cubicBezTo>
                  <a:pt x="11790" y="14364"/>
                  <a:pt x="11858" y="14389"/>
                  <a:pt x="11881" y="14511"/>
                </a:cubicBezTo>
                <a:cubicBezTo>
                  <a:pt x="11899" y="14604"/>
                  <a:pt x="11850" y="14750"/>
                  <a:pt x="11807" y="14833"/>
                </a:cubicBezTo>
                <a:cubicBezTo>
                  <a:pt x="11771" y="14902"/>
                  <a:pt x="11733" y="14930"/>
                  <a:pt x="11733" y="15007"/>
                </a:cubicBezTo>
                <a:cubicBezTo>
                  <a:pt x="11803" y="14998"/>
                  <a:pt x="11864" y="14968"/>
                  <a:pt x="11931" y="14957"/>
                </a:cubicBezTo>
                <a:cubicBezTo>
                  <a:pt x="11948" y="14957"/>
                  <a:pt x="11964" y="14957"/>
                  <a:pt x="11981" y="14957"/>
                </a:cubicBezTo>
              </a:path>
              <a:path w="1837" h="968">
                <a:moveTo>
                  <a:pt x="12154" y="14412"/>
                </a:moveTo>
                <a:cubicBezTo>
                  <a:pt x="12256" y="14412"/>
                  <a:pt x="12418" y="14378"/>
                  <a:pt x="12502" y="14436"/>
                </a:cubicBezTo>
                <a:cubicBezTo>
                  <a:pt x="12594" y="14499"/>
                  <a:pt x="12547" y="14620"/>
                  <a:pt x="12526" y="14709"/>
                </a:cubicBezTo>
                <a:cubicBezTo>
                  <a:pt x="12499" y="14822"/>
                  <a:pt x="12426" y="14921"/>
                  <a:pt x="12402" y="15032"/>
                </a:cubicBezTo>
                <a:cubicBezTo>
                  <a:pt x="12402" y="15048"/>
                  <a:pt x="12402" y="15065"/>
                  <a:pt x="12402" y="15081"/>
                </a:cubicBezTo>
              </a:path>
              <a:path w="1837" h="968">
                <a:moveTo>
                  <a:pt x="12799" y="15156"/>
                </a:moveTo>
                <a:cubicBezTo>
                  <a:pt x="12816" y="15156"/>
                  <a:pt x="12832" y="15156"/>
                  <a:pt x="12849" y="15156"/>
                </a:cubicBezTo>
                <a:cubicBezTo>
                  <a:pt x="12849" y="15213"/>
                  <a:pt x="12845" y="15286"/>
                  <a:pt x="12799" y="15329"/>
                </a:cubicBezTo>
                <a:cubicBezTo>
                  <a:pt x="12783" y="15337"/>
                  <a:pt x="12766" y="15346"/>
                  <a:pt x="12750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13200" y="5224320"/>
            <a:ext cx="455760" cy="223920"/>
          </a:xfrm>
          <a:custGeom>
            <a:avLst/>
            <a:gdLst/>
            <a:ahLst/>
            <a:rect l="l" t="t" r="r" b="b"/>
            <a:pathLst>
              <a:path w="1266" h="621">
                <a:moveTo>
                  <a:pt x="13395" y="14660"/>
                </a:moveTo>
                <a:cubicBezTo>
                  <a:pt x="13377" y="14570"/>
                  <a:pt x="13384" y="14535"/>
                  <a:pt x="13494" y="14511"/>
                </a:cubicBezTo>
                <a:cubicBezTo>
                  <a:pt x="13565" y="14495"/>
                  <a:pt x="13627" y="14538"/>
                  <a:pt x="13643" y="14610"/>
                </a:cubicBezTo>
                <a:cubicBezTo>
                  <a:pt x="13661" y="14694"/>
                  <a:pt x="13610" y="14789"/>
                  <a:pt x="13568" y="14858"/>
                </a:cubicBezTo>
                <a:cubicBezTo>
                  <a:pt x="13529" y="14923"/>
                  <a:pt x="13489" y="14968"/>
                  <a:pt x="13469" y="15032"/>
                </a:cubicBezTo>
                <a:cubicBezTo>
                  <a:pt x="13469" y="15040"/>
                  <a:pt x="13469" y="15048"/>
                  <a:pt x="13469" y="15056"/>
                </a:cubicBezTo>
                <a:cubicBezTo>
                  <a:pt x="13526" y="15056"/>
                  <a:pt x="13566" y="15040"/>
                  <a:pt x="13618" y="15032"/>
                </a:cubicBezTo>
                <a:cubicBezTo>
                  <a:pt x="13694" y="15020"/>
                  <a:pt x="13767" y="15048"/>
                  <a:pt x="13841" y="15056"/>
                </a:cubicBezTo>
              </a:path>
              <a:path w="1266" h="621">
                <a:moveTo>
                  <a:pt x="14436" y="14635"/>
                </a:moveTo>
                <a:cubicBezTo>
                  <a:pt x="14464" y="14619"/>
                  <a:pt x="14546" y="14589"/>
                  <a:pt x="14560" y="14560"/>
                </a:cubicBezTo>
                <a:cubicBezTo>
                  <a:pt x="14560" y="14552"/>
                  <a:pt x="14560" y="14544"/>
                  <a:pt x="14560" y="14536"/>
                </a:cubicBezTo>
                <a:cubicBezTo>
                  <a:pt x="14540" y="14505"/>
                  <a:pt x="14467" y="14500"/>
                  <a:pt x="14412" y="14511"/>
                </a:cubicBezTo>
                <a:cubicBezTo>
                  <a:pt x="14317" y="14530"/>
                  <a:pt x="14258" y="14604"/>
                  <a:pt x="14213" y="14684"/>
                </a:cubicBezTo>
                <a:cubicBezTo>
                  <a:pt x="14161" y="14776"/>
                  <a:pt x="14195" y="14802"/>
                  <a:pt x="14263" y="14858"/>
                </a:cubicBezTo>
                <a:cubicBezTo>
                  <a:pt x="14316" y="14902"/>
                  <a:pt x="14380" y="14918"/>
                  <a:pt x="14436" y="14957"/>
                </a:cubicBezTo>
                <a:cubicBezTo>
                  <a:pt x="14467" y="14979"/>
                  <a:pt x="14474" y="15045"/>
                  <a:pt x="14461" y="15081"/>
                </a:cubicBezTo>
                <a:cubicBezTo>
                  <a:pt x="14436" y="15149"/>
                  <a:pt x="14330" y="15147"/>
                  <a:pt x="14263" y="15131"/>
                </a:cubicBezTo>
                <a:cubicBezTo>
                  <a:pt x="14210" y="15118"/>
                  <a:pt x="14161" y="15066"/>
                  <a:pt x="14188" y="15007"/>
                </a:cubicBezTo>
                <a:cubicBezTo>
                  <a:pt x="14242" y="14889"/>
                  <a:pt x="14369" y="14816"/>
                  <a:pt x="14461" y="14734"/>
                </a:cubicBezTo>
                <a:cubicBezTo>
                  <a:pt x="14524" y="14678"/>
                  <a:pt x="14565" y="14629"/>
                  <a:pt x="14635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iple my age and add 5, the answer is less than 1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and solve an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ximum age I could have been at my last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73800" y="2625840"/>
            <a:ext cx="393480" cy="276120"/>
          </a:xfrm>
          <a:custGeom>
            <a:avLst/>
            <a:gdLst/>
            <a:ahLst/>
            <a:rect l="l" t="t" r="r" b="b"/>
            <a:pathLst>
              <a:path w="1093" h="770">
                <a:moveTo>
                  <a:pt x="15230" y="7491"/>
                </a:moveTo>
                <a:cubicBezTo>
                  <a:pt x="15208" y="7448"/>
                  <a:pt x="15242" y="7418"/>
                  <a:pt x="15280" y="7367"/>
                </a:cubicBezTo>
                <a:cubicBezTo>
                  <a:pt x="15304" y="7334"/>
                  <a:pt x="15387" y="7282"/>
                  <a:pt x="15429" y="7293"/>
                </a:cubicBezTo>
                <a:cubicBezTo>
                  <a:pt x="15502" y="7312"/>
                  <a:pt x="15561" y="7366"/>
                  <a:pt x="15577" y="7441"/>
                </a:cubicBezTo>
                <a:cubicBezTo>
                  <a:pt x="15594" y="7521"/>
                  <a:pt x="15500" y="7573"/>
                  <a:pt x="15453" y="7615"/>
                </a:cubicBezTo>
                <a:cubicBezTo>
                  <a:pt x="15423" y="7642"/>
                  <a:pt x="15333" y="7708"/>
                  <a:pt x="15329" y="7739"/>
                </a:cubicBezTo>
                <a:cubicBezTo>
                  <a:pt x="15315" y="7835"/>
                  <a:pt x="15362" y="7816"/>
                  <a:pt x="15429" y="7863"/>
                </a:cubicBezTo>
                <a:cubicBezTo>
                  <a:pt x="15479" y="7898"/>
                  <a:pt x="15532" y="7924"/>
                  <a:pt x="15553" y="7987"/>
                </a:cubicBezTo>
                <a:cubicBezTo>
                  <a:pt x="15568" y="8030"/>
                  <a:pt x="15544" y="8059"/>
                  <a:pt x="15503" y="8062"/>
                </a:cubicBezTo>
                <a:cubicBezTo>
                  <a:pt x="15437" y="8067"/>
                  <a:pt x="15370" y="8062"/>
                  <a:pt x="15304" y="8062"/>
                </a:cubicBezTo>
              </a:path>
              <a:path w="1093" h="770">
                <a:moveTo>
                  <a:pt x="15825" y="7888"/>
                </a:moveTo>
                <a:cubicBezTo>
                  <a:pt x="15857" y="7845"/>
                  <a:pt x="15844" y="7838"/>
                  <a:pt x="15900" y="7838"/>
                </a:cubicBezTo>
                <a:cubicBezTo>
                  <a:pt x="15946" y="7838"/>
                  <a:pt x="15964" y="7832"/>
                  <a:pt x="15999" y="7863"/>
                </a:cubicBezTo>
                <a:cubicBezTo>
                  <a:pt x="16052" y="7910"/>
                  <a:pt x="16009" y="7966"/>
                  <a:pt x="15974" y="8012"/>
                </a:cubicBezTo>
                <a:cubicBezTo>
                  <a:pt x="15942" y="8054"/>
                  <a:pt x="15873" y="8037"/>
                  <a:pt x="15825" y="8037"/>
                </a:cubicBezTo>
                <a:cubicBezTo>
                  <a:pt x="15801" y="8037"/>
                  <a:pt x="15792" y="8037"/>
                  <a:pt x="15776" y="8037"/>
                </a:cubicBezTo>
              </a:path>
              <a:path w="1093" h="770">
                <a:moveTo>
                  <a:pt x="16148" y="7813"/>
                </a:moveTo>
                <a:cubicBezTo>
                  <a:pt x="16156" y="7805"/>
                  <a:pt x="16165" y="7797"/>
                  <a:pt x="16173" y="7789"/>
                </a:cubicBezTo>
                <a:cubicBezTo>
                  <a:pt x="16127" y="7800"/>
                  <a:pt x="16078" y="7846"/>
                  <a:pt x="16049" y="7888"/>
                </a:cubicBezTo>
                <a:cubicBezTo>
                  <a:pt x="16009" y="7945"/>
                  <a:pt x="16014" y="7999"/>
                  <a:pt x="16073" y="8037"/>
                </a:cubicBezTo>
                <a:cubicBezTo>
                  <a:pt x="16138" y="8079"/>
                  <a:pt x="16222" y="8062"/>
                  <a:pt x="16297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7200" y="2759040"/>
            <a:ext cx="527040" cy="196920"/>
          </a:xfrm>
          <a:custGeom>
            <a:avLst/>
            <a:gdLst/>
            <a:ahLst/>
            <a:rect l="l" t="t" r="r" b="b"/>
            <a:pathLst>
              <a:path w="1464" h="546">
                <a:moveTo>
                  <a:pt x="17214" y="8012"/>
                </a:moveTo>
                <a:cubicBezTo>
                  <a:pt x="17142" y="8012"/>
                  <a:pt x="17082" y="7996"/>
                  <a:pt x="17016" y="7987"/>
                </a:cubicBezTo>
                <a:cubicBezTo>
                  <a:pt x="16937" y="7977"/>
                  <a:pt x="16848" y="7987"/>
                  <a:pt x="16768" y="7987"/>
                </a:cubicBezTo>
              </a:path>
              <a:path w="1464" h="546">
                <a:moveTo>
                  <a:pt x="16942" y="7838"/>
                </a:moveTo>
                <a:cubicBezTo>
                  <a:pt x="16981" y="7852"/>
                  <a:pt x="16966" y="7888"/>
                  <a:pt x="16966" y="7938"/>
                </a:cubicBezTo>
                <a:cubicBezTo>
                  <a:pt x="16966" y="8004"/>
                  <a:pt x="16966" y="8070"/>
                  <a:pt x="16966" y="8136"/>
                </a:cubicBezTo>
              </a:path>
              <a:path w="1464" h="546">
                <a:moveTo>
                  <a:pt x="17760" y="7739"/>
                </a:moveTo>
                <a:cubicBezTo>
                  <a:pt x="17760" y="7697"/>
                  <a:pt x="17768" y="7681"/>
                  <a:pt x="17735" y="7689"/>
                </a:cubicBezTo>
                <a:cubicBezTo>
                  <a:pt x="17694" y="7700"/>
                  <a:pt x="17666" y="7718"/>
                  <a:pt x="17661" y="7764"/>
                </a:cubicBezTo>
                <a:cubicBezTo>
                  <a:pt x="17653" y="7832"/>
                  <a:pt x="17705" y="7835"/>
                  <a:pt x="17760" y="7863"/>
                </a:cubicBezTo>
                <a:cubicBezTo>
                  <a:pt x="17835" y="7901"/>
                  <a:pt x="17898" y="7930"/>
                  <a:pt x="17959" y="7987"/>
                </a:cubicBezTo>
                <a:cubicBezTo>
                  <a:pt x="18007" y="8032"/>
                  <a:pt x="18008" y="8074"/>
                  <a:pt x="18008" y="8136"/>
                </a:cubicBezTo>
                <a:cubicBezTo>
                  <a:pt x="18008" y="8202"/>
                  <a:pt x="17936" y="8208"/>
                  <a:pt x="17884" y="8210"/>
                </a:cubicBezTo>
                <a:cubicBezTo>
                  <a:pt x="17799" y="8214"/>
                  <a:pt x="17739" y="8179"/>
                  <a:pt x="17661" y="8161"/>
                </a:cubicBezTo>
                <a:cubicBezTo>
                  <a:pt x="17636" y="8161"/>
                  <a:pt x="17628" y="8161"/>
                  <a:pt x="17636" y="8136"/>
                </a:cubicBezTo>
              </a:path>
              <a:path w="1464" h="546">
                <a:moveTo>
                  <a:pt x="18182" y="7665"/>
                </a:moveTo>
                <a:cubicBezTo>
                  <a:pt x="18207" y="7665"/>
                  <a:pt x="18215" y="7665"/>
                  <a:pt x="18231" y="7665"/>
                </a:cubicBezTo>
                <a:cubicBezTo>
                  <a:pt x="18099" y="7665"/>
                  <a:pt x="17967" y="7665"/>
                  <a:pt x="17835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66000" y="2803680"/>
            <a:ext cx="231840" cy="107640"/>
          </a:xfrm>
          <a:custGeom>
            <a:avLst/>
            <a:gdLst/>
            <a:ahLst/>
            <a:rect l="l" t="t" r="r" b="b"/>
            <a:pathLst>
              <a:path w="646" h="298">
                <a:moveTo>
                  <a:pt x="19844" y="7789"/>
                </a:moveTo>
                <a:cubicBezTo>
                  <a:pt x="19798" y="7789"/>
                  <a:pt x="19780" y="7806"/>
                  <a:pt x="19745" y="7813"/>
                </a:cubicBezTo>
                <a:cubicBezTo>
                  <a:pt x="19693" y="7824"/>
                  <a:pt x="19642" y="7815"/>
                  <a:pt x="19596" y="7838"/>
                </a:cubicBezTo>
                <a:cubicBezTo>
                  <a:pt x="19558" y="7857"/>
                  <a:pt x="19511" y="7875"/>
                  <a:pt x="19472" y="7888"/>
                </a:cubicBezTo>
                <a:cubicBezTo>
                  <a:pt x="19436" y="7900"/>
                  <a:pt x="19407" y="7926"/>
                  <a:pt x="19372" y="7938"/>
                </a:cubicBezTo>
                <a:cubicBezTo>
                  <a:pt x="19321" y="7955"/>
                  <a:pt x="19423" y="7931"/>
                  <a:pt x="19447" y="7938"/>
                </a:cubicBezTo>
                <a:cubicBezTo>
                  <a:pt x="19540" y="7965"/>
                  <a:pt x="19627" y="7991"/>
                  <a:pt x="19720" y="8012"/>
                </a:cubicBezTo>
                <a:cubicBezTo>
                  <a:pt x="19805" y="8031"/>
                  <a:pt x="19886" y="8068"/>
                  <a:pt x="19968" y="8086"/>
                </a:cubicBezTo>
                <a:cubicBezTo>
                  <a:pt x="19976" y="8086"/>
                  <a:pt x="19985" y="8086"/>
                  <a:pt x="19993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4960" y="2670120"/>
            <a:ext cx="534960" cy="303120"/>
          </a:xfrm>
          <a:custGeom>
            <a:avLst/>
            <a:gdLst/>
            <a:ahLst/>
            <a:rect l="l" t="t" r="r" b="b"/>
            <a:pathLst>
              <a:path w="1489" h="844">
                <a:moveTo>
                  <a:pt x="21034" y="7615"/>
                </a:moveTo>
                <a:cubicBezTo>
                  <a:pt x="21051" y="7598"/>
                  <a:pt x="21067" y="7582"/>
                  <a:pt x="21084" y="7565"/>
                </a:cubicBezTo>
                <a:cubicBezTo>
                  <a:pt x="21046" y="7530"/>
                  <a:pt x="21043" y="7668"/>
                  <a:pt x="21034" y="7714"/>
                </a:cubicBezTo>
                <a:cubicBezTo>
                  <a:pt x="21012" y="7831"/>
                  <a:pt x="20985" y="7917"/>
                  <a:pt x="20985" y="8037"/>
                </a:cubicBezTo>
                <a:cubicBezTo>
                  <a:pt x="20985" y="8053"/>
                  <a:pt x="20985" y="8070"/>
                  <a:pt x="20985" y="8086"/>
                </a:cubicBezTo>
              </a:path>
              <a:path w="1489" h="844">
                <a:moveTo>
                  <a:pt x="21431" y="7590"/>
                </a:moveTo>
                <a:cubicBezTo>
                  <a:pt x="21424" y="7569"/>
                  <a:pt x="21386" y="7552"/>
                  <a:pt x="21406" y="7516"/>
                </a:cubicBezTo>
                <a:cubicBezTo>
                  <a:pt x="21429" y="7475"/>
                  <a:pt x="21441" y="7464"/>
                  <a:pt x="21481" y="7441"/>
                </a:cubicBezTo>
                <a:cubicBezTo>
                  <a:pt x="21563" y="7395"/>
                  <a:pt x="21603" y="7409"/>
                  <a:pt x="21654" y="7466"/>
                </a:cubicBezTo>
                <a:cubicBezTo>
                  <a:pt x="21722" y="7541"/>
                  <a:pt x="21706" y="7602"/>
                  <a:pt x="21679" y="7689"/>
                </a:cubicBezTo>
                <a:cubicBezTo>
                  <a:pt x="21650" y="7782"/>
                  <a:pt x="21590" y="7885"/>
                  <a:pt x="21530" y="7962"/>
                </a:cubicBezTo>
                <a:cubicBezTo>
                  <a:pt x="21492" y="8010"/>
                  <a:pt x="21469" y="8011"/>
                  <a:pt x="21456" y="8062"/>
                </a:cubicBezTo>
                <a:cubicBezTo>
                  <a:pt x="21482" y="8099"/>
                  <a:pt x="21545" y="8086"/>
                  <a:pt x="21605" y="8086"/>
                </a:cubicBezTo>
                <a:cubicBezTo>
                  <a:pt x="21691" y="8086"/>
                  <a:pt x="21749" y="8093"/>
                  <a:pt x="21828" y="8111"/>
                </a:cubicBezTo>
                <a:cubicBezTo>
                  <a:pt x="21857" y="8118"/>
                  <a:pt x="21897" y="8111"/>
                  <a:pt x="21927" y="8111"/>
                </a:cubicBezTo>
              </a:path>
              <a:path w="1489" h="844">
                <a:moveTo>
                  <a:pt x="22324" y="7615"/>
                </a:moveTo>
                <a:cubicBezTo>
                  <a:pt x="22350" y="7596"/>
                  <a:pt x="22393" y="7590"/>
                  <a:pt x="22349" y="7590"/>
                </a:cubicBezTo>
                <a:cubicBezTo>
                  <a:pt x="22297" y="7603"/>
                  <a:pt x="22259" y="7668"/>
                  <a:pt x="22225" y="7714"/>
                </a:cubicBezTo>
                <a:cubicBezTo>
                  <a:pt x="22166" y="7794"/>
                  <a:pt x="22119" y="7913"/>
                  <a:pt x="22101" y="8012"/>
                </a:cubicBezTo>
                <a:cubicBezTo>
                  <a:pt x="22084" y="8104"/>
                  <a:pt x="22097" y="8164"/>
                  <a:pt x="22175" y="8210"/>
                </a:cubicBezTo>
                <a:cubicBezTo>
                  <a:pt x="22261" y="8260"/>
                  <a:pt x="22311" y="8267"/>
                  <a:pt x="22399" y="8210"/>
                </a:cubicBezTo>
                <a:cubicBezTo>
                  <a:pt x="22446" y="8180"/>
                  <a:pt x="22496" y="8064"/>
                  <a:pt x="22473" y="8012"/>
                </a:cubicBezTo>
                <a:cubicBezTo>
                  <a:pt x="22435" y="7924"/>
                  <a:pt x="22350" y="7938"/>
                  <a:pt x="22275" y="7938"/>
                </a:cubicBezTo>
                <a:cubicBezTo>
                  <a:pt x="22216" y="7938"/>
                  <a:pt x="22190" y="7941"/>
                  <a:pt x="2215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9120" y="3106800"/>
            <a:ext cx="330120" cy="689040"/>
          </a:xfrm>
          <a:custGeom>
            <a:avLst/>
            <a:gdLst/>
            <a:ahLst/>
            <a:rect l="l" t="t" r="r" b="b"/>
            <a:pathLst>
              <a:path w="918" h="1911">
                <a:moveTo>
                  <a:pt x="16942" y="8806"/>
                </a:moveTo>
                <a:cubicBezTo>
                  <a:pt x="16942" y="8761"/>
                  <a:pt x="16948" y="8733"/>
                  <a:pt x="16991" y="8706"/>
                </a:cubicBezTo>
                <a:cubicBezTo>
                  <a:pt x="17038" y="8676"/>
                  <a:pt x="17110" y="8636"/>
                  <a:pt x="17165" y="8632"/>
                </a:cubicBezTo>
                <a:cubicBezTo>
                  <a:pt x="17217" y="8629"/>
                  <a:pt x="17260" y="8652"/>
                  <a:pt x="17264" y="8706"/>
                </a:cubicBezTo>
                <a:cubicBezTo>
                  <a:pt x="17270" y="8794"/>
                  <a:pt x="17198" y="8807"/>
                  <a:pt x="17140" y="8855"/>
                </a:cubicBezTo>
                <a:cubicBezTo>
                  <a:pt x="17090" y="8897"/>
                  <a:pt x="17045" y="8964"/>
                  <a:pt x="17041" y="9029"/>
                </a:cubicBezTo>
                <a:cubicBezTo>
                  <a:pt x="17034" y="9130"/>
                  <a:pt x="17100" y="9149"/>
                  <a:pt x="17165" y="9203"/>
                </a:cubicBezTo>
                <a:cubicBezTo>
                  <a:pt x="17224" y="9252"/>
                  <a:pt x="17254" y="9307"/>
                  <a:pt x="17264" y="9376"/>
                </a:cubicBezTo>
                <a:cubicBezTo>
                  <a:pt x="17217" y="9411"/>
                  <a:pt x="17177" y="9401"/>
                  <a:pt x="17115" y="9401"/>
                </a:cubicBezTo>
                <a:cubicBezTo>
                  <a:pt x="17052" y="9401"/>
                  <a:pt x="17019" y="9389"/>
                  <a:pt x="16966" y="9376"/>
                </a:cubicBezTo>
              </a:path>
              <a:path w="918" h="1911">
                <a:moveTo>
                  <a:pt x="17438" y="9178"/>
                </a:moveTo>
                <a:cubicBezTo>
                  <a:pt x="17418" y="9137"/>
                  <a:pt x="17409" y="9131"/>
                  <a:pt x="17413" y="9103"/>
                </a:cubicBezTo>
                <a:cubicBezTo>
                  <a:pt x="17461" y="9068"/>
                  <a:pt x="17505" y="9069"/>
                  <a:pt x="17562" y="9103"/>
                </a:cubicBezTo>
                <a:cubicBezTo>
                  <a:pt x="17623" y="9140"/>
                  <a:pt x="17611" y="9218"/>
                  <a:pt x="17611" y="9277"/>
                </a:cubicBezTo>
                <a:cubicBezTo>
                  <a:pt x="17611" y="9329"/>
                  <a:pt x="17595" y="9372"/>
                  <a:pt x="17537" y="9376"/>
                </a:cubicBezTo>
                <a:cubicBezTo>
                  <a:pt x="17485" y="9376"/>
                  <a:pt x="17467" y="9375"/>
                  <a:pt x="17438" y="9351"/>
                </a:cubicBezTo>
              </a:path>
              <a:path w="918" h="1911">
                <a:moveTo>
                  <a:pt x="17735" y="9203"/>
                </a:moveTo>
                <a:cubicBezTo>
                  <a:pt x="17774" y="9164"/>
                  <a:pt x="17806" y="9147"/>
                  <a:pt x="17760" y="9153"/>
                </a:cubicBezTo>
                <a:cubicBezTo>
                  <a:pt x="17738" y="9175"/>
                  <a:pt x="17669" y="9223"/>
                  <a:pt x="17661" y="9252"/>
                </a:cubicBezTo>
                <a:cubicBezTo>
                  <a:pt x="17653" y="9279"/>
                  <a:pt x="17661" y="9348"/>
                  <a:pt x="17661" y="9376"/>
                </a:cubicBezTo>
                <a:cubicBezTo>
                  <a:pt x="17715" y="9376"/>
                  <a:pt x="17756" y="9413"/>
                  <a:pt x="17810" y="9401"/>
                </a:cubicBezTo>
                <a:cubicBezTo>
                  <a:pt x="17826" y="9393"/>
                  <a:pt x="17843" y="9384"/>
                  <a:pt x="17859" y="9376"/>
                </a:cubicBezTo>
              </a:path>
              <a:path w="918" h="1911">
                <a:moveTo>
                  <a:pt x="17289" y="10195"/>
                </a:moveTo>
                <a:cubicBezTo>
                  <a:pt x="17256" y="10195"/>
                  <a:pt x="17223" y="10195"/>
                  <a:pt x="17190" y="10195"/>
                </a:cubicBezTo>
                <a:cubicBezTo>
                  <a:pt x="17260" y="10195"/>
                  <a:pt x="17322" y="10188"/>
                  <a:pt x="17388" y="10220"/>
                </a:cubicBezTo>
                <a:cubicBezTo>
                  <a:pt x="17427" y="10239"/>
                  <a:pt x="17468" y="10379"/>
                  <a:pt x="17438" y="10418"/>
                </a:cubicBezTo>
                <a:cubicBezTo>
                  <a:pt x="17404" y="10461"/>
                  <a:pt x="17315" y="10482"/>
                  <a:pt x="17264" y="10468"/>
                </a:cubicBezTo>
                <a:cubicBezTo>
                  <a:pt x="17224" y="10448"/>
                  <a:pt x="17217" y="10439"/>
                  <a:pt x="17190" y="10443"/>
                </a:cubicBezTo>
              </a:path>
              <a:path w="918" h="1911">
                <a:moveTo>
                  <a:pt x="17487" y="10344"/>
                </a:moveTo>
                <a:cubicBezTo>
                  <a:pt x="17562" y="10325"/>
                  <a:pt x="17595" y="10343"/>
                  <a:pt x="17587" y="10294"/>
                </a:cubicBezTo>
                <a:cubicBezTo>
                  <a:pt x="17540" y="10332"/>
                  <a:pt x="17478" y="10351"/>
                  <a:pt x="17462" y="10418"/>
                </a:cubicBezTo>
                <a:cubicBezTo>
                  <a:pt x="17446" y="10486"/>
                  <a:pt x="17506" y="10537"/>
                  <a:pt x="17562" y="10542"/>
                </a:cubicBezTo>
                <a:cubicBezTo>
                  <a:pt x="17630" y="10542"/>
                  <a:pt x="17649" y="10545"/>
                  <a:pt x="17686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67360" y="3214800"/>
            <a:ext cx="249480" cy="115920"/>
          </a:xfrm>
          <a:custGeom>
            <a:avLst/>
            <a:gdLst/>
            <a:ahLst/>
            <a:rect l="l" t="t" r="r" b="b"/>
            <a:pathLst>
              <a:path w="695" h="323">
                <a:moveTo>
                  <a:pt x="19571" y="8979"/>
                </a:moveTo>
                <a:cubicBezTo>
                  <a:pt x="19584" y="8940"/>
                  <a:pt x="19583" y="8969"/>
                  <a:pt x="19596" y="8930"/>
                </a:cubicBezTo>
                <a:cubicBezTo>
                  <a:pt x="19540" y="8930"/>
                  <a:pt x="19523" y="8952"/>
                  <a:pt x="19472" y="8979"/>
                </a:cubicBezTo>
                <a:cubicBezTo>
                  <a:pt x="19398" y="9018"/>
                  <a:pt x="19321" y="9029"/>
                  <a:pt x="19248" y="9054"/>
                </a:cubicBezTo>
                <a:cubicBezTo>
                  <a:pt x="19196" y="9072"/>
                  <a:pt x="19161" y="9115"/>
                  <a:pt x="19124" y="9153"/>
                </a:cubicBezTo>
                <a:cubicBezTo>
                  <a:pt x="19088" y="9189"/>
                  <a:pt x="19088" y="9164"/>
                  <a:pt x="19075" y="9203"/>
                </a:cubicBezTo>
                <a:cubicBezTo>
                  <a:pt x="19211" y="9203"/>
                  <a:pt x="19339" y="9214"/>
                  <a:pt x="19472" y="9227"/>
                </a:cubicBezTo>
                <a:cubicBezTo>
                  <a:pt x="19557" y="9235"/>
                  <a:pt x="19634" y="9252"/>
                  <a:pt x="19720" y="9252"/>
                </a:cubicBezTo>
                <a:cubicBezTo>
                  <a:pt x="19736" y="9252"/>
                  <a:pt x="19753" y="9252"/>
                  <a:pt x="19769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1960" y="3143160"/>
            <a:ext cx="482400" cy="258840"/>
          </a:xfrm>
          <a:custGeom>
            <a:avLst/>
            <a:gdLst/>
            <a:ahLst/>
            <a:rect l="l" t="t" r="r" b="b"/>
            <a:pathLst>
              <a:path w="1341" h="721">
                <a:moveTo>
                  <a:pt x="21084" y="8905"/>
                </a:moveTo>
                <a:cubicBezTo>
                  <a:pt x="21101" y="8974"/>
                  <a:pt x="21094" y="8979"/>
                  <a:pt x="21084" y="9054"/>
                </a:cubicBezTo>
                <a:cubicBezTo>
                  <a:pt x="21072" y="9149"/>
                  <a:pt x="21079" y="9236"/>
                  <a:pt x="21059" y="9327"/>
                </a:cubicBezTo>
                <a:cubicBezTo>
                  <a:pt x="21059" y="9351"/>
                  <a:pt x="21059" y="9360"/>
                  <a:pt x="21059" y="9376"/>
                </a:cubicBezTo>
              </a:path>
              <a:path w="1341" h="721">
                <a:moveTo>
                  <a:pt x="21431" y="8930"/>
                </a:moveTo>
                <a:cubicBezTo>
                  <a:pt x="21392" y="8879"/>
                  <a:pt x="21411" y="8874"/>
                  <a:pt x="21456" y="8830"/>
                </a:cubicBezTo>
                <a:cubicBezTo>
                  <a:pt x="21489" y="8798"/>
                  <a:pt x="21556" y="8728"/>
                  <a:pt x="21605" y="8731"/>
                </a:cubicBezTo>
                <a:cubicBezTo>
                  <a:pt x="21681" y="8735"/>
                  <a:pt x="21701" y="8825"/>
                  <a:pt x="21704" y="8880"/>
                </a:cubicBezTo>
                <a:cubicBezTo>
                  <a:pt x="21710" y="8993"/>
                  <a:pt x="21667" y="8993"/>
                  <a:pt x="21605" y="9079"/>
                </a:cubicBezTo>
                <a:cubicBezTo>
                  <a:pt x="21571" y="9126"/>
                  <a:pt x="21535" y="9161"/>
                  <a:pt x="21506" y="9203"/>
                </a:cubicBezTo>
                <a:cubicBezTo>
                  <a:pt x="21479" y="9244"/>
                  <a:pt x="21464" y="9257"/>
                  <a:pt x="21506" y="9277"/>
                </a:cubicBezTo>
                <a:cubicBezTo>
                  <a:pt x="21593" y="9318"/>
                  <a:pt x="21689" y="9302"/>
                  <a:pt x="21779" y="9327"/>
                </a:cubicBezTo>
                <a:cubicBezTo>
                  <a:pt x="21832" y="9342"/>
                  <a:pt x="21886" y="9345"/>
                  <a:pt x="21927" y="9376"/>
                </a:cubicBezTo>
              </a:path>
              <a:path w="1341" h="721">
                <a:moveTo>
                  <a:pt x="22374" y="9004"/>
                </a:moveTo>
                <a:cubicBezTo>
                  <a:pt x="22382" y="8979"/>
                  <a:pt x="22391" y="8955"/>
                  <a:pt x="22399" y="8930"/>
                </a:cubicBezTo>
                <a:cubicBezTo>
                  <a:pt x="22352" y="8960"/>
                  <a:pt x="22351" y="9057"/>
                  <a:pt x="22349" y="9128"/>
                </a:cubicBezTo>
                <a:cubicBezTo>
                  <a:pt x="22345" y="9235"/>
                  <a:pt x="22349" y="9344"/>
                  <a:pt x="2234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5640" y="3633840"/>
            <a:ext cx="15228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9447" y="10096"/>
                </a:moveTo>
                <a:cubicBezTo>
                  <a:pt x="19472" y="10096"/>
                  <a:pt x="19480" y="10096"/>
                  <a:pt x="19496" y="10096"/>
                </a:cubicBezTo>
                <a:cubicBezTo>
                  <a:pt x="19438" y="10096"/>
                  <a:pt x="19443" y="10132"/>
                  <a:pt x="19397" y="10145"/>
                </a:cubicBezTo>
                <a:cubicBezTo>
                  <a:pt x="19327" y="10165"/>
                  <a:pt x="19269" y="10186"/>
                  <a:pt x="19199" y="10220"/>
                </a:cubicBezTo>
                <a:cubicBezTo>
                  <a:pt x="19160" y="10239"/>
                  <a:pt x="19137" y="10259"/>
                  <a:pt x="19100" y="10269"/>
                </a:cubicBezTo>
                <a:cubicBezTo>
                  <a:pt x="19109" y="10297"/>
                  <a:pt x="19133" y="10316"/>
                  <a:pt x="19174" y="10319"/>
                </a:cubicBezTo>
                <a:cubicBezTo>
                  <a:pt x="19249" y="10324"/>
                  <a:pt x="19304" y="10359"/>
                  <a:pt x="19372" y="10393"/>
                </a:cubicBezTo>
                <a:cubicBezTo>
                  <a:pt x="19424" y="10419"/>
                  <a:pt x="19468" y="10423"/>
                  <a:pt x="19521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5240" y="3598920"/>
            <a:ext cx="679680" cy="285840"/>
          </a:xfrm>
          <a:custGeom>
            <a:avLst/>
            <a:gdLst/>
            <a:ahLst/>
            <a:rect l="l" t="t" r="r" b="b"/>
            <a:pathLst>
              <a:path w="1886" h="795">
                <a:moveTo>
                  <a:pt x="21109" y="10120"/>
                </a:moveTo>
                <a:cubicBezTo>
                  <a:pt x="21131" y="10098"/>
                  <a:pt x="21136" y="10090"/>
                  <a:pt x="21158" y="10096"/>
                </a:cubicBezTo>
                <a:cubicBezTo>
                  <a:pt x="21118" y="10177"/>
                  <a:pt x="21066" y="10235"/>
                  <a:pt x="21034" y="10319"/>
                </a:cubicBezTo>
                <a:cubicBezTo>
                  <a:pt x="21004" y="10398"/>
                  <a:pt x="20966" y="10484"/>
                  <a:pt x="20960" y="10567"/>
                </a:cubicBezTo>
                <a:cubicBezTo>
                  <a:pt x="20960" y="10575"/>
                  <a:pt x="20960" y="10584"/>
                  <a:pt x="20960" y="10592"/>
                </a:cubicBezTo>
                <a:cubicBezTo>
                  <a:pt x="21013" y="10592"/>
                  <a:pt x="21086" y="10581"/>
                  <a:pt x="21134" y="10567"/>
                </a:cubicBezTo>
                <a:cubicBezTo>
                  <a:pt x="21217" y="10543"/>
                  <a:pt x="21268" y="10517"/>
                  <a:pt x="21357" y="10517"/>
                </a:cubicBezTo>
                <a:cubicBezTo>
                  <a:pt x="21364" y="10517"/>
                  <a:pt x="21568" y="10506"/>
                  <a:pt x="21555" y="10542"/>
                </a:cubicBezTo>
                <a:cubicBezTo>
                  <a:pt x="21547" y="10542"/>
                  <a:pt x="21538" y="10542"/>
                  <a:pt x="21530" y="10542"/>
                </a:cubicBezTo>
              </a:path>
              <a:path w="1886" h="795">
                <a:moveTo>
                  <a:pt x="21357" y="10418"/>
                </a:moveTo>
                <a:cubicBezTo>
                  <a:pt x="21357" y="10410"/>
                  <a:pt x="21357" y="10401"/>
                  <a:pt x="21357" y="10393"/>
                </a:cubicBezTo>
                <a:cubicBezTo>
                  <a:pt x="21294" y="10424"/>
                  <a:pt x="21307" y="10469"/>
                  <a:pt x="21307" y="10542"/>
                </a:cubicBezTo>
                <a:cubicBezTo>
                  <a:pt x="21307" y="10616"/>
                  <a:pt x="21307" y="10691"/>
                  <a:pt x="21307" y="10765"/>
                </a:cubicBezTo>
              </a:path>
              <a:path w="1886" h="795">
                <a:moveTo>
                  <a:pt x="21803" y="10393"/>
                </a:moveTo>
                <a:cubicBezTo>
                  <a:pt x="21761" y="10361"/>
                  <a:pt x="21754" y="10374"/>
                  <a:pt x="21754" y="10319"/>
                </a:cubicBezTo>
                <a:cubicBezTo>
                  <a:pt x="21754" y="10270"/>
                  <a:pt x="21742" y="10240"/>
                  <a:pt x="21779" y="10220"/>
                </a:cubicBezTo>
                <a:cubicBezTo>
                  <a:pt x="21888" y="10161"/>
                  <a:pt x="21901" y="10210"/>
                  <a:pt x="21952" y="10294"/>
                </a:cubicBezTo>
                <a:cubicBezTo>
                  <a:pt x="22011" y="10391"/>
                  <a:pt x="22029" y="10506"/>
                  <a:pt x="21977" y="10616"/>
                </a:cubicBezTo>
                <a:cubicBezTo>
                  <a:pt x="21952" y="10669"/>
                  <a:pt x="21852" y="10690"/>
                  <a:pt x="21803" y="10666"/>
                </a:cubicBezTo>
                <a:cubicBezTo>
                  <a:pt x="21743" y="10637"/>
                  <a:pt x="21669" y="10560"/>
                  <a:pt x="21654" y="10492"/>
                </a:cubicBezTo>
                <a:cubicBezTo>
                  <a:pt x="21642" y="10437"/>
                  <a:pt x="21699" y="10411"/>
                  <a:pt x="21729" y="10368"/>
                </a:cubicBezTo>
              </a:path>
              <a:path w="1886" h="795">
                <a:moveTo>
                  <a:pt x="22399" y="9996"/>
                </a:moveTo>
                <a:cubicBezTo>
                  <a:pt x="22424" y="10056"/>
                  <a:pt x="22423" y="10080"/>
                  <a:pt x="22423" y="10145"/>
                </a:cubicBezTo>
                <a:cubicBezTo>
                  <a:pt x="22423" y="10178"/>
                  <a:pt x="22423" y="10195"/>
                  <a:pt x="22423" y="10220"/>
                </a:cubicBezTo>
              </a:path>
              <a:path w="1886" h="795">
                <a:moveTo>
                  <a:pt x="22771" y="10244"/>
                </a:moveTo>
                <a:cubicBezTo>
                  <a:pt x="22771" y="10252"/>
                  <a:pt x="22771" y="10261"/>
                  <a:pt x="22771" y="10269"/>
                </a:cubicBezTo>
                <a:cubicBezTo>
                  <a:pt x="22734" y="10281"/>
                  <a:pt x="22733" y="10308"/>
                  <a:pt x="22671" y="10319"/>
                </a:cubicBezTo>
                <a:cubicBezTo>
                  <a:pt x="22604" y="10331"/>
                  <a:pt x="22539" y="10357"/>
                  <a:pt x="22473" y="10368"/>
                </a:cubicBezTo>
                <a:cubicBezTo>
                  <a:pt x="22444" y="10373"/>
                  <a:pt x="22405" y="10368"/>
                  <a:pt x="22374" y="10368"/>
                </a:cubicBezTo>
              </a:path>
              <a:path w="1886" h="795">
                <a:moveTo>
                  <a:pt x="22597" y="10443"/>
                </a:moveTo>
                <a:cubicBezTo>
                  <a:pt x="22541" y="10443"/>
                  <a:pt x="22628" y="10419"/>
                  <a:pt x="22647" y="10418"/>
                </a:cubicBezTo>
                <a:cubicBezTo>
                  <a:pt x="22712" y="10413"/>
                  <a:pt x="22721" y="10426"/>
                  <a:pt x="22771" y="10443"/>
                </a:cubicBezTo>
                <a:cubicBezTo>
                  <a:pt x="22813" y="10457"/>
                  <a:pt x="22802" y="10482"/>
                  <a:pt x="22771" y="10517"/>
                </a:cubicBezTo>
                <a:cubicBezTo>
                  <a:pt x="22735" y="10557"/>
                  <a:pt x="22721" y="10562"/>
                  <a:pt x="22721" y="10616"/>
                </a:cubicBezTo>
                <a:cubicBezTo>
                  <a:pt x="22721" y="10668"/>
                  <a:pt x="22764" y="10662"/>
                  <a:pt x="22796" y="10691"/>
                </a:cubicBezTo>
                <a:cubicBezTo>
                  <a:pt x="22820" y="10716"/>
                  <a:pt x="22828" y="10724"/>
                  <a:pt x="22845" y="10740"/>
                </a:cubicBezTo>
                <a:cubicBezTo>
                  <a:pt x="22792" y="10793"/>
                  <a:pt x="22772" y="10790"/>
                  <a:pt x="2269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19680" y="5116680"/>
            <a:ext cx="590400" cy="322200"/>
          </a:xfrm>
          <a:custGeom>
            <a:avLst/>
            <a:gdLst/>
            <a:ahLst/>
            <a:rect l="l" t="t" r="r" b="b"/>
            <a:pathLst>
              <a:path w="1638" h="894">
                <a:moveTo>
                  <a:pt x="10964" y="14263"/>
                </a:moveTo>
                <a:cubicBezTo>
                  <a:pt x="10972" y="14246"/>
                  <a:pt x="10980" y="14230"/>
                  <a:pt x="10988" y="14213"/>
                </a:cubicBezTo>
                <a:cubicBezTo>
                  <a:pt x="10974" y="14287"/>
                  <a:pt x="10939" y="14363"/>
                  <a:pt x="10914" y="14436"/>
                </a:cubicBezTo>
                <a:cubicBezTo>
                  <a:pt x="10883" y="14528"/>
                  <a:pt x="10889" y="14613"/>
                  <a:pt x="10889" y="14709"/>
                </a:cubicBezTo>
                <a:cubicBezTo>
                  <a:pt x="10889" y="14765"/>
                  <a:pt x="10923" y="14821"/>
                  <a:pt x="10988" y="14833"/>
                </a:cubicBezTo>
                <a:cubicBezTo>
                  <a:pt x="11090" y="14852"/>
                  <a:pt x="11210" y="14793"/>
                  <a:pt x="11311" y="14784"/>
                </a:cubicBezTo>
                <a:cubicBezTo>
                  <a:pt x="11417" y="14775"/>
                  <a:pt x="11511" y="14793"/>
                  <a:pt x="11609" y="14808"/>
                </a:cubicBezTo>
                <a:cubicBezTo>
                  <a:pt x="11661" y="14816"/>
                  <a:pt x="11717" y="14786"/>
                  <a:pt x="11733" y="14833"/>
                </a:cubicBezTo>
              </a:path>
              <a:path w="1638" h="894">
                <a:moveTo>
                  <a:pt x="11336" y="14684"/>
                </a:moveTo>
                <a:cubicBezTo>
                  <a:pt x="11336" y="14668"/>
                  <a:pt x="11336" y="14651"/>
                  <a:pt x="11336" y="14635"/>
                </a:cubicBezTo>
                <a:cubicBezTo>
                  <a:pt x="11307" y="14712"/>
                  <a:pt x="11311" y="14773"/>
                  <a:pt x="11311" y="14858"/>
                </a:cubicBezTo>
                <a:cubicBezTo>
                  <a:pt x="11311" y="14949"/>
                  <a:pt x="11325" y="15021"/>
                  <a:pt x="11336" y="15106"/>
                </a:cubicBezTo>
              </a:path>
              <a:path w="1638" h="894">
                <a:moveTo>
                  <a:pt x="12055" y="14610"/>
                </a:moveTo>
                <a:cubicBezTo>
                  <a:pt x="12055" y="14549"/>
                  <a:pt x="12069" y="14510"/>
                  <a:pt x="12080" y="14461"/>
                </a:cubicBezTo>
                <a:cubicBezTo>
                  <a:pt x="12092" y="14407"/>
                  <a:pt x="12136" y="14353"/>
                  <a:pt x="12204" y="14337"/>
                </a:cubicBezTo>
                <a:cubicBezTo>
                  <a:pt x="12282" y="14319"/>
                  <a:pt x="12388" y="14406"/>
                  <a:pt x="12427" y="14461"/>
                </a:cubicBezTo>
                <a:cubicBezTo>
                  <a:pt x="12497" y="14561"/>
                  <a:pt x="12541" y="14737"/>
                  <a:pt x="12526" y="14858"/>
                </a:cubicBezTo>
                <a:cubicBezTo>
                  <a:pt x="12511" y="14978"/>
                  <a:pt x="12450" y="15058"/>
                  <a:pt x="12328" y="15081"/>
                </a:cubicBezTo>
                <a:cubicBezTo>
                  <a:pt x="12237" y="15098"/>
                  <a:pt x="12088" y="15027"/>
                  <a:pt x="12030" y="14957"/>
                </a:cubicBezTo>
                <a:cubicBezTo>
                  <a:pt x="11969" y="14884"/>
                  <a:pt x="11971" y="14789"/>
                  <a:pt x="12005" y="14709"/>
                </a:cubicBezTo>
                <a:cubicBezTo>
                  <a:pt x="12033" y="14642"/>
                  <a:pt x="12050" y="14624"/>
                  <a:pt x="12105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x &lt; 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8000" y="4005360"/>
            <a:ext cx="3276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multiply by a negative number, the sign changes round. The best thing is to avoid multiplying by a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9000" y="2303640"/>
            <a:ext cx="357120" cy="21420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3349" y="6772"/>
                </a:moveTo>
                <a:cubicBezTo>
                  <a:pt x="3337" y="6722"/>
                  <a:pt x="3325" y="6722"/>
                  <a:pt x="3274" y="6722"/>
                </a:cubicBezTo>
                <a:cubicBezTo>
                  <a:pt x="3191" y="6722"/>
                  <a:pt x="3109" y="6722"/>
                  <a:pt x="3026" y="6722"/>
                </a:cubicBezTo>
              </a:path>
              <a:path w="993" h="596">
                <a:moveTo>
                  <a:pt x="3101" y="6499"/>
                </a:moveTo>
                <a:cubicBezTo>
                  <a:pt x="3101" y="6491"/>
                  <a:pt x="3101" y="6482"/>
                  <a:pt x="3101" y="6474"/>
                </a:cubicBezTo>
                <a:cubicBezTo>
                  <a:pt x="3137" y="6487"/>
                  <a:pt x="3125" y="6504"/>
                  <a:pt x="3125" y="6548"/>
                </a:cubicBezTo>
                <a:cubicBezTo>
                  <a:pt x="3125" y="6581"/>
                  <a:pt x="3125" y="6615"/>
                  <a:pt x="3125" y="6648"/>
                </a:cubicBezTo>
              </a:path>
              <a:path w="993" h="596">
                <a:moveTo>
                  <a:pt x="3175" y="6921"/>
                </a:moveTo>
                <a:lnTo>
                  <a:pt x="3175" y="6921"/>
                </a:lnTo>
              </a:path>
              <a:path w="993" h="596">
                <a:moveTo>
                  <a:pt x="3621" y="6524"/>
                </a:moveTo>
                <a:cubicBezTo>
                  <a:pt x="3594" y="6515"/>
                  <a:pt x="3575" y="6472"/>
                  <a:pt x="3621" y="6449"/>
                </a:cubicBezTo>
                <a:cubicBezTo>
                  <a:pt x="3656" y="6431"/>
                  <a:pt x="3701" y="6404"/>
                  <a:pt x="3746" y="6400"/>
                </a:cubicBezTo>
                <a:cubicBezTo>
                  <a:pt x="3787" y="6396"/>
                  <a:pt x="3817" y="6438"/>
                  <a:pt x="3820" y="6474"/>
                </a:cubicBezTo>
                <a:cubicBezTo>
                  <a:pt x="3826" y="6564"/>
                  <a:pt x="3788" y="6571"/>
                  <a:pt x="3770" y="6648"/>
                </a:cubicBezTo>
                <a:cubicBezTo>
                  <a:pt x="3742" y="6764"/>
                  <a:pt x="3798" y="6739"/>
                  <a:pt x="3870" y="6772"/>
                </a:cubicBezTo>
                <a:cubicBezTo>
                  <a:pt x="3907" y="6789"/>
                  <a:pt x="3964" y="6819"/>
                  <a:pt x="3994" y="6846"/>
                </a:cubicBezTo>
                <a:cubicBezTo>
                  <a:pt x="4037" y="6885"/>
                  <a:pt x="4022" y="6945"/>
                  <a:pt x="3969" y="6970"/>
                </a:cubicBezTo>
                <a:cubicBezTo>
                  <a:pt x="3896" y="6994"/>
                  <a:pt x="3872" y="7003"/>
                  <a:pt x="3820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0160" y="2089080"/>
            <a:ext cx="2465640" cy="1019160"/>
          </a:xfrm>
          <a:custGeom>
            <a:avLst/>
            <a:gdLst/>
            <a:ahLst/>
            <a:rect l="l" t="t" r="r" b="b"/>
            <a:pathLst>
              <a:path w="6847" h="2829">
                <a:moveTo>
                  <a:pt x="10120" y="5953"/>
                </a:moveTo>
                <a:cubicBezTo>
                  <a:pt x="10139" y="5879"/>
                  <a:pt x="10147" y="5872"/>
                  <a:pt x="10145" y="5829"/>
                </a:cubicBezTo>
                <a:cubicBezTo>
                  <a:pt x="10075" y="5867"/>
                  <a:pt x="9985" y="5931"/>
                  <a:pt x="9897" y="5978"/>
                </a:cubicBezTo>
                <a:cubicBezTo>
                  <a:pt x="9662" y="6105"/>
                  <a:pt x="9486" y="6283"/>
                  <a:pt x="9277" y="6449"/>
                </a:cubicBezTo>
                <a:cubicBezTo>
                  <a:pt x="8989" y="6677"/>
                  <a:pt x="8734" y="6929"/>
                  <a:pt x="8458" y="7169"/>
                </a:cubicBezTo>
                <a:cubicBezTo>
                  <a:pt x="8145" y="7441"/>
                  <a:pt x="7820" y="7703"/>
                  <a:pt x="7516" y="7987"/>
                </a:cubicBezTo>
                <a:cubicBezTo>
                  <a:pt x="7290" y="8199"/>
                  <a:pt x="7065" y="8413"/>
                  <a:pt x="6846" y="8632"/>
                </a:cubicBezTo>
              </a:path>
              <a:path w="6847" h="2829">
                <a:moveTo>
                  <a:pt x="12353" y="7764"/>
                </a:moveTo>
                <a:cubicBezTo>
                  <a:pt x="12347" y="7768"/>
                  <a:pt x="12467" y="7841"/>
                  <a:pt x="12328" y="7838"/>
                </a:cubicBezTo>
                <a:cubicBezTo>
                  <a:pt x="12130" y="7834"/>
                  <a:pt x="11888" y="7715"/>
                  <a:pt x="11708" y="7640"/>
                </a:cubicBezTo>
                <a:cubicBezTo>
                  <a:pt x="11257" y="7453"/>
                  <a:pt x="10808" y="7248"/>
                  <a:pt x="10344" y="7094"/>
                </a:cubicBezTo>
                <a:cubicBezTo>
                  <a:pt x="9582" y="6842"/>
                  <a:pt x="8814" y="6625"/>
                  <a:pt x="8037" y="6424"/>
                </a:cubicBezTo>
                <a:cubicBezTo>
                  <a:pt x="7443" y="6270"/>
                  <a:pt x="6846" y="6130"/>
                  <a:pt x="6251" y="5978"/>
                </a:cubicBezTo>
                <a:cubicBezTo>
                  <a:pt x="5896" y="5884"/>
                  <a:pt x="5790" y="5855"/>
                  <a:pt x="5556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2367000"/>
            <a:ext cx="1197000" cy="241200"/>
          </a:xfrm>
          <a:custGeom>
            <a:avLst/>
            <a:gdLst/>
            <a:ahLst/>
            <a:rect l="l" t="t" r="r" b="b"/>
            <a:pathLst>
              <a:path w="3325" h="671">
                <a:moveTo>
                  <a:pt x="7293" y="6945"/>
                </a:moveTo>
                <a:cubicBezTo>
                  <a:pt x="7253" y="6932"/>
                  <a:pt x="7283" y="6934"/>
                  <a:pt x="7243" y="6921"/>
                </a:cubicBezTo>
                <a:cubicBezTo>
                  <a:pt x="7281" y="6883"/>
                  <a:pt x="7306" y="6853"/>
                  <a:pt x="7367" y="6871"/>
                </a:cubicBezTo>
                <a:cubicBezTo>
                  <a:pt x="7468" y="6901"/>
                  <a:pt x="7500" y="6958"/>
                  <a:pt x="7541" y="7045"/>
                </a:cubicBezTo>
                <a:cubicBezTo>
                  <a:pt x="7569" y="7105"/>
                  <a:pt x="7583" y="7165"/>
                  <a:pt x="7541" y="7218"/>
                </a:cubicBezTo>
                <a:cubicBezTo>
                  <a:pt x="7507" y="7261"/>
                  <a:pt x="7442" y="7243"/>
                  <a:pt x="7392" y="7243"/>
                </a:cubicBezTo>
                <a:cubicBezTo>
                  <a:pt x="7384" y="7243"/>
                  <a:pt x="7375" y="7243"/>
                  <a:pt x="7367" y="7243"/>
                </a:cubicBezTo>
              </a:path>
              <a:path w="3325" h="671">
                <a:moveTo>
                  <a:pt x="7714" y="6796"/>
                </a:moveTo>
                <a:cubicBezTo>
                  <a:pt x="7782" y="6718"/>
                  <a:pt x="7792" y="6736"/>
                  <a:pt x="7739" y="6772"/>
                </a:cubicBezTo>
                <a:cubicBezTo>
                  <a:pt x="7685" y="6808"/>
                  <a:pt x="7628" y="6872"/>
                  <a:pt x="7615" y="6945"/>
                </a:cubicBezTo>
                <a:cubicBezTo>
                  <a:pt x="7601" y="7026"/>
                  <a:pt x="7605" y="7091"/>
                  <a:pt x="7689" y="7119"/>
                </a:cubicBezTo>
                <a:cubicBezTo>
                  <a:pt x="7720" y="7129"/>
                  <a:pt x="7758" y="7100"/>
                  <a:pt x="7789" y="7094"/>
                </a:cubicBezTo>
              </a:path>
              <a:path w="3325" h="671">
                <a:moveTo>
                  <a:pt x="8855" y="6796"/>
                </a:moveTo>
                <a:cubicBezTo>
                  <a:pt x="8881" y="6777"/>
                  <a:pt x="8951" y="6772"/>
                  <a:pt x="8905" y="6772"/>
                </a:cubicBezTo>
                <a:cubicBezTo>
                  <a:pt x="8875" y="6772"/>
                  <a:pt x="8846" y="6809"/>
                  <a:pt x="8806" y="6821"/>
                </a:cubicBezTo>
                <a:cubicBezTo>
                  <a:pt x="8762" y="6834"/>
                  <a:pt x="8720" y="6862"/>
                  <a:pt x="8682" y="6896"/>
                </a:cubicBezTo>
                <a:cubicBezTo>
                  <a:pt x="8643" y="6932"/>
                  <a:pt x="8632" y="6943"/>
                  <a:pt x="8632" y="6995"/>
                </a:cubicBezTo>
                <a:cubicBezTo>
                  <a:pt x="8632" y="7020"/>
                  <a:pt x="8632" y="7028"/>
                  <a:pt x="8632" y="7045"/>
                </a:cubicBezTo>
                <a:cubicBezTo>
                  <a:pt x="8753" y="7045"/>
                  <a:pt x="8865" y="7044"/>
                  <a:pt x="8979" y="7069"/>
                </a:cubicBezTo>
                <a:cubicBezTo>
                  <a:pt x="9004" y="7069"/>
                  <a:pt x="9012" y="7069"/>
                  <a:pt x="9029" y="7069"/>
                </a:cubicBezTo>
              </a:path>
              <a:path w="3325" h="671">
                <a:moveTo>
                  <a:pt x="9922" y="6747"/>
                </a:moveTo>
                <a:cubicBezTo>
                  <a:pt x="9922" y="6799"/>
                  <a:pt x="9952" y="6697"/>
                  <a:pt x="9971" y="6672"/>
                </a:cubicBezTo>
                <a:cubicBezTo>
                  <a:pt x="9994" y="6641"/>
                  <a:pt x="10082" y="6582"/>
                  <a:pt x="10120" y="6573"/>
                </a:cubicBezTo>
                <a:cubicBezTo>
                  <a:pt x="10188" y="6557"/>
                  <a:pt x="10239" y="6617"/>
                  <a:pt x="10244" y="6672"/>
                </a:cubicBezTo>
                <a:cubicBezTo>
                  <a:pt x="10256" y="6803"/>
                  <a:pt x="10220" y="6858"/>
                  <a:pt x="10170" y="6970"/>
                </a:cubicBezTo>
                <a:cubicBezTo>
                  <a:pt x="10140" y="7038"/>
                  <a:pt x="10093" y="7122"/>
                  <a:pt x="10071" y="7193"/>
                </a:cubicBezTo>
                <a:cubicBezTo>
                  <a:pt x="10071" y="7201"/>
                  <a:pt x="10071" y="7210"/>
                  <a:pt x="10071" y="7218"/>
                </a:cubicBezTo>
                <a:cubicBezTo>
                  <a:pt x="10130" y="7218"/>
                  <a:pt x="10160" y="7217"/>
                  <a:pt x="10220" y="7193"/>
                </a:cubicBezTo>
                <a:cubicBezTo>
                  <a:pt x="10310" y="7158"/>
                  <a:pt x="10392" y="7125"/>
                  <a:pt x="10492" y="7144"/>
                </a:cubicBezTo>
                <a:cubicBezTo>
                  <a:pt x="10517" y="7152"/>
                  <a:pt x="10542" y="7161"/>
                  <a:pt x="10567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38800" y="1633680"/>
            <a:ext cx="2633400" cy="893520"/>
          </a:xfrm>
          <a:custGeom>
            <a:avLst/>
            <a:gdLst/>
            <a:ahLst/>
            <a:rect l="l" t="t" r="r" b="b"/>
            <a:pathLst>
              <a:path w="7318" h="2482">
                <a:moveTo>
                  <a:pt x="13395" y="6697"/>
                </a:moveTo>
                <a:cubicBezTo>
                  <a:pt x="13461" y="6697"/>
                  <a:pt x="13353" y="6694"/>
                  <a:pt x="13345" y="6697"/>
                </a:cubicBezTo>
                <a:cubicBezTo>
                  <a:pt x="13273" y="6723"/>
                  <a:pt x="13201" y="6743"/>
                  <a:pt x="13122" y="6747"/>
                </a:cubicBezTo>
                <a:cubicBezTo>
                  <a:pt x="13080" y="6747"/>
                  <a:pt x="13072" y="6747"/>
                  <a:pt x="13047" y="6747"/>
                </a:cubicBezTo>
              </a:path>
              <a:path w="7318" h="2482">
                <a:moveTo>
                  <a:pt x="13295" y="6548"/>
                </a:moveTo>
                <a:cubicBezTo>
                  <a:pt x="13334" y="6548"/>
                  <a:pt x="13320" y="6565"/>
                  <a:pt x="13320" y="6598"/>
                </a:cubicBezTo>
              </a:path>
              <a:path w="7318" h="2482">
                <a:moveTo>
                  <a:pt x="13345" y="6921"/>
                </a:moveTo>
                <a:cubicBezTo>
                  <a:pt x="13345" y="6954"/>
                  <a:pt x="13345" y="6987"/>
                  <a:pt x="13345" y="7020"/>
                </a:cubicBezTo>
              </a:path>
              <a:path w="7318" h="2482">
                <a:moveTo>
                  <a:pt x="13816" y="6449"/>
                </a:moveTo>
                <a:cubicBezTo>
                  <a:pt x="13808" y="6449"/>
                  <a:pt x="13799" y="6449"/>
                  <a:pt x="13791" y="6449"/>
                </a:cubicBezTo>
                <a:cubicBezTo>
                  <a:pt x="13791" y="6373"/>
                  <a:pt x="13805" y="6397"/>
                  <a:pt x="13866" y="6375"/>
                </a:cubicBezTo>
                <a:cubicBezTo>
                  <a:pt x="13927" y="6353"/>
                  <a:pt x="14021" y="6329"/>
                  <a:pt x="14089" y="6350"/>
                </a:cubicBezTo>
                <a:cubicBezTo>
                  <a:pt x="14143" y="6367"/>
                  <a:pt x="14208" y="6435"/>
                  <a:pt x="14188" y="6499"/>
                </a:cubicBezTo>
                <a:cubicBezTo>
                  <a:pt x="14169" y="6561"/>
                  <a:pt x="14074" y="6582"/>
                  <a:pt x="14039" y="6623"/>
                </a:cubicBezTo>
                <a:cubicBezTo>
                  <a:pt x="13988" y="6682"/>
                  <a:pt x="14012" y="6718"/>
                  <a:pt x="14064" y="6747"/>
                </a:cubicBezTo>
                <a:cubicBezTo>
                  <a:pt x="14136" y="6788"/>
                  <a:pt x="14198" y="6763"/>
                  <a:pt x="14263" y="6821"/>
                </a:cubicBezTo>
                <a:cubicBezTo>
                  <a:pt x="14305" y="6859"/>
                  <a:pt x="14329" y="6875"/>
                  <a:pt x="14288" y="6921"/>
                </a:cubicBezTo>
                <a:cubicBezTo>
                  <a:pt x="14241" y="6973"/>
                  <a:pt x="14101" y="6945"/>
                  <a:pt x="14039" y="6945"/>
                </a:cubicBezTo>
                <a:cubicBezTo>
                  <a:pt x="13953" y="6945"/>
                  <a:pt x="13878" y="6921"/>
                  <a:pt x="13791" y="6921"/>
                </a:cubicBezTo>
              </a:path>
              <a:path w="7318" h="2482">
                <a:moveTo>
                  <a:pt x="13543" y="6375"/>
                </a:moveTo>
                <a:cubicBezTo>
                  <a:pt x="13543" y="6367"/>
                  <a:pt x="13543" y="6358"/>
                  <a:pt x="13543" y="6350"/>
                </a:cubicBezTo>
                <a:cubicBezTo>
                  <a:pt x="13460" y="6350"/>
                  <a:pt x="13378" y="6350"/>
                  <a:pt x="13295" y="6350"/>
                </a:cubicBezTo>
              </a:path>
              <a:path w="7318" h="2482">
                <a:moveTo>
                  <a:pt x="12328" y="5159"/>
                </a:moveTo>
                <a:cubicBezTo>
                  <a:pt x="12626" y="5159"/>
                  <a:pt x="12881" y="5109"/>
                  <a:pt x="13171" y="5035"/>
                </a:cubicBezTo>
                <a:cubicBezTo>
                  <a:pt x="13624" y="4919"/>
                  <a:pt x="14078" y="4802"/>
                  <a:pt x="14536" y="4713"/>
                </a:cubicBezTo>
                <a:cubicBezTo>
                  <a:pt x="14911" y="4640"/>
                  <a:pt x="15295" y="4558"/>
                  <a:pt x="15677" y="4539"/>
                </a:cubicBezTo>
                <a:cubicBezTo>
                  <a:pt x="16026" y="4522"/>
                  <a:pt x="16371" y="4552"/>
                  <a:pt x="16718" y="4589"/>
                </a:cubicBezTo>
                <a:cubicBezTo>
                  <a:pt x="17193" y="4640"/>
                  <a:pt x="17728" y="4657"/>
                  <a:pt x="18182" y="4812"/>
                </a:cubicBezTo>
                <a:cubicBezTo>
                  <a:pt x="18356" y="4872"/>
                  <a:pt x="18540" y="4952"/>
                  <a:pt x="18703" y="5035"/>
                </a:cubicBezTo>
                <a:cubicBezTo>
                  <a:pt x="18837" y="5103"/>
                  <a:pt x="18936" y="5190"/>
                  <a:pt x="19050" y="5283"/>
                </a:cubicBezTo>
                <a:cubicBezTo>
                  <a:pt x="19102" y="5326"/>
                  <a:pt x="19147" y="5366"/>
                  <a:pt x="19199" y="5407"/>
                </a:cubicBezTo>
                <a:cubicBezTo>
                  <a:pt x="19232" y="5433"/>
                  <a:pt x="19252" y="5485"/>
                  <a:pt x="19298" y="5482"/>
                </a:cubicBezTo>
                <a:cubicBezTo>
                  <a:pt x="19330" y="5480"/>
                  <a:pt x="19337" y="5455"/>
                  <a:pt x="19372" y="5432"/>
                </a:cubicBezTo>
                <a:cubicBezTo>
                  <a:pt x="19444" y="5385"/>
                  <a:pt x="19498" y="5310"/>
                  <a:pt x="19546" y="5234"/>
                </a:cubicBezTo>
                <a:cubicBezTo>
                  <a:pt x="19585" y="5173"/>
                  <a:pt x="19615" y="5094"/>
                  <a:pt x="19645" y="5035"/>
                </a:cubicBezTo>
                <a:cubicBezTo>
                  <a:pt x="19635" y="5053"/>
                  <a:pt x="19588" y="5115"/>
                  <a:pt x="19571" y="5159"/>
                </a:cubicBezTo>
                <a:cubicBezTo>
                  <a:pt x="19548" y="5221"/>
                  <a:pt x="19549" y="5286"/>
                  <a:pt x="19496" y="5333"/>
                </a:cubicBezTo>
                <a:cubicBezTo>
                  <a:pt x="19420" y="5402"/>
                  <a:pt x="19441" y="5362"/>
                  <a:pt x="19323" y="5333"/>
                </a:cubicBezTo>
                <a:cubicBezTo>
                  <a:pt x="19231" y="5311"/>
                  <a:pt x="19144" y="5279"/>
                  <a:pt x="19050" y="5259"/>
                </a:cubicBezTo>
                <a:cubicBezTo>
                  <a:pt x="19002" y="5249"/>
                  <a:pt x="18950" y="5242"/>
                  <a:pt x="18901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72120" y="2224080"/>
            <a:ext cx="588960" cy="241200"/>
          </a:xfrm>
          <a:custGeom>
            <a:avLst/>
            <a:gdLst/>
            <a:ahLst/>
            <a:rect l="l" t="t" r="r" b="b"/>
            <a:pathLst>
              <a:path w="1638" h="671">
                <a:moveTo>
                  <a:pt x="17239" y="6598"/>
                </a:moveTo>
                <a:cubicBezTo>
                  <a:pt x="17247" y="6590"/>
                  <a:pt x="17256" y="6581"/>
                  <a:pt x="17264" y="6573"/>
                </a:cubicBezTo>
                <a:cubicBezTo>
                  <a:pt x="17216" y="6573"/>
                  <a:pt x="17158" y="6583"/>
                  <a:pt x="17115" y="6598"/>
                </a:cubicBezTo>
                <a:cubicBezTo>
                  <a:pt x="17047" y="6621"/>
                  <a:pt x="16956" y="6621"/>
                  <a:pt x="16892" y="6648"/>
                </a:cubicBezTo>
                <a:cubicBezTo>
                  <a:pt x="16884" y="6656"/>
                  <a:pt x="16875" y="6664"/>
                  <a:pt x="16867" y="6672"/>
                </a:cubicBezTo>
              </a:path>
              <a:path w="1638" h="671">
                <a:moveTo>
                  <a:pt x="16966" y="6474"/>
                </a:moveTo>
                <a:cubicBezTo>
                  <a:pt x="16983" y="6474"/>
                  <a:pt x="16999" y="6474"/>
                  <a:pt x="17016" y="6474"/>
                </a:cubicBezTo>
                <a:cubicBezTo>
                  <a:pt x="17016" y="6562"/>
                  <a:pt x="17038" y="6635"/>
                  <a:pt x="17041" y="6722"/>
                </a:cubicBezTo>
                <a:cubicBezTo>
                  <a:pt x="17041" y="6788"/>
                  <a:pt x="17041" y="6805"/>
                  <a:pt x="17041" y="6846"/>
                </a:cubicBezTo>
              </a:path>
              <a:path w="1638" h="671">
                <a:moveTo>
                  <a:pt x="17537" y="6300"/>
                </a:moveTo>
                <a:cubicBezTo>
                  <a:pt x="17514" y="6278"/>
                  <a:pt x="17506" y="6273"/>
                  <a:pt x="17512" y="6251"/>
                </a:cubicBezTo>
                <a:cubicBezTo>
                  <a:pt x="17549" y="6224"/>
                  <a:pt x="17613" y="6187"/>
                  <a:pt x="17661" y="6176"/>
                </a:cubicBezTo>
                <a:cubicBezTo>
                  <a:pt x="17705" y="6166"/>
                  <a:pt x="17794" y="6169"/>
                  <a:pt x="17810" y="6226"/>
                </a:cubicBezTo>
                <a:cubicBezTo>
                  <a:pt x="17832" y="6302"/>
                  <a:pt x="17745" y="6332"/>
                  <a:pt x="17711" y="6375"/>
                </a:cubicBezTo>
                <a:cubicBezTo>
                  <a:pt x="17674" y="6421"/>
                  <a:pt x="17628" y="6477"/>
                  <a:pt x="17661" y="6524"/>
                </a:cubicBezTo>
                <a:cubicBezTo>
                  <a:pt x="17694" y="6570"/>
                  <a:pt x="17753" y="6579"/>
                  <a:pt x="17785" y="6623"/>
                </a:cubicBezTo>
                <a:cubicBezTo>
                  <a:pt x="17811" y="6659"/>
                  <a:pt x="17859" y="6724"/>
                  <a:pt x="17835" y="6772"/>
                </a:cubicBezTo>
                <a:cubicBezTo>
                  <a:pt x="17812" y="6817"/>
                  <a:pt x="17725" y="6796"/>
                  <a:pt x="17686" y="6796"/>
                </a:cubicBezTo>
                <a:cubicBezTo>
                  <a:pt x="17678" y="6796"/>
                  <a:pt x="17669" y="6796"/>
                  <a:pt x="17661" y="6796"/>
                </a:cubicBezTo>
              </a:path>
              <a:path w="1638" h="671">
                <a:moveTo>
                  <a:pt x="18008" y="6648"/>
                </a:moveTo>
                <a:cubicBezTo>
                  <a:pt x="17992" y="6640"/>
                  <a:pt x="17975" y="6631"/>
                  <a:pt x="17959" y="6623"/>
                </a:cubicBezTo>
                <a:cubicBezTo>
                  <a:pt x="17970" y="6577"/>
                  <a:pt x="18005" y="6557"/>
                  <a:pt x="18058" y="6548"/>
                </a:cubicBezTo>
                <a:cubicBezTo>
                  <a:pt x="18136" y="6534"/>
                  <a:pt x="18197" y="6590"/>
                  <a:pt x="18231" y="6648"/>
                </a:cubicBezTo>
                <a:cubicBezTo>
                  <a:pt x="18273" y="6719"/>
                  <a:pt x="18259" y="6744"/>
                  <a:pt x="18207" y="6796"/>
                </a:cubicBezTo>
                <a:cubicBezTo>
                  <a:pt x="18184" y="6819"/>
                  <a:pt x="18180" y="6827"/>
                  <a:pt x="18157" y="6821"/>
                </a:cubicBezTo>
              </a:path>
              <a:path w="1638" h="671">
                <a:moveTo>
                  <a:pt x="18355" y="6548"/>
                </a:moveTo>
                <a:cubicBezTo>
                  <a:pt x="18314" y="6559"/>
                  <a:pt x="18286" y="6577"/>
                  <a:pt x="18281" y="6623"/>
                </a:cubicBezTo>
                <a:cubicBezTo>
                  <a:pt x="18271" y="6713"/>
                  <a:pt x="18333" y="6699"/>
                  <a:pt x="18380" y="6722"/>
                </a:cubicBezTo>
                <a:cubicBezTo>
                  <a:pt x="18427" y="6746"/>
                  <a:pt x="18445" y="6747"/>
                  <a:pt x="185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5120" y="2625840"/>
            <a:ext cx="11592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7115" y="7466"/>
                </a:moveTo>
                <a:cubicBezTo>
                  <a:pt x="17070" y="7500"/>
                  <a:pt x="17026" y="7513"/>
                  <a:pt x="16966" y="7516"/>
                </a:cubicBezTo>
                <a:cubicBezTo>
                  <a:pt x="16900" y="7519"/>
                  <a:pt x="16856" y="7533"/>
                  <a:pt x="16793" y="7541"/>
                </a:cubicBezTo>
              </a:path>
              <a:path w="323" h="447">
                <a:moveTo>
                  <a:pt x="16842" y="7293"/>
                </a:moveTo>
                <a:cubicBezTo>
                  <a:pt x="16919" y="7356"/>
                  <a:pt x="16892" y="7432"/>
                  <a:pt x="16892" y="7541"/>
                </a:cubicBezTo>
                <a:cubicBezTo>
                  <a:pt x="16892" y="7619"/>
                  <a:pt x="16893" y="7668"/>
                  <a:pt x="16917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3040" y="2517840"/>
            <a:ext cx="88920" cy="241200"/>
          </a:xfrm>
          <a:custGeom>
            <a:avLst/>
            <a:gdLst/>
            <a:ahLst/>
            <a:rect l="l" t="t" r="r" b="b"/>
            <a:pathLst>
              <a:path w="249" h="671">
                <a:moveTo>
                  <a:pt x="17562" y="7069"/>
                </a:moveTo>
                <a:cubicBezTo>
                  <a:pt x="17608" y="7037"/>
                  <a:pt x="17639" y="7007"/>
                  <a:pt x="17686" y="6995"/>
                </a:cubicBezTo>
                <a:cubicBezTo>
                  <a:pt x="17626" y="7070"/>
                  <a:pt x="17611" y="7150"/>
                  <a:pt x="17587" y="7243"/>
                </a:cubicBezTo>
                <a:cubicBezTo>
                  <a:pt x="17551" y="7384"/>
                  <a:pt x="17544" y="7496"/>
                  <a:pt x="17636" y="7615"/>
                </a:cubicBezTo>
                <a:cubicBezTo>
                  <a:pt x="17673" y="7663"/>
                  <a:pt x="17779" y="7702"/>
                  <a:pt x="17810" y="7615"/>
                </a:cubicBezTo>
                <a:cubicBezTo>
                  <a:pt x="17828" y="7564"/>
                  <a:pt x="17808" y="7521"/>
                  <a:pt x="17760" y="7516"/>
                </a:cubicBezTo>
                <a:cubicBezTo>
                  <a:pt x="17725" y="7516"/>
                  <a:pt x="17708" y="7521"/>
                  <a:pt x="17686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71840" y="3313080"/>
            <a:ext cx="196920" cy="169920"/>
          </a:xfrm>
          <a:custGeom>
            <a:avLst/>
            <a:gdLst/>
            <a:ahLst/>
            <a:rect l="l" t="t" r="r" b="b"/>
            <a:pathLst>
              <a:path w="546" h="472">
                <a:moveTo>
                  <a:pt x="7169" y="9426"/>
                </a:moveTo>
                <a:cubicBezTo>
                  <a:pt x="7131" y="9413"/>
                  <a:pt x="7144" y="9396"/>
                  <a:pt x="7144" y="9351"/>
                </a:cubicBezTo>
                <a:cubicBezTo>
                  <a:pt x="7144" y="9312"/>
                  <a:pt x="7231" y="9302"/>
                  <a:pt x="7268" y="9277"/>
                </a:cubicBezTo>
                <a:cubicBezTo>
                  <a:pt x="7338" y="9229"/>
                  <a:pt x="7376" y="9257"/>
                  <a:pt x="7417" y="9327"/>
                </a:cubicBezTo>
                <a:cubicBezTo>
                  <a:pt x="7443" y="9372"/>
                  <a:pt x="7460" y="9474"/>
                  <a:pt x="7441" y="9525"/>
                </a:cubicBezTo>
                <a:cubicBezTo>
                  <a:pt x="7424" y="9571"/>
                  <a:pt x="7369" y="9637"/>
                  <a:pt x="7317" y="9649"/>
                </a:cubicBezTo>
                <a:cubicBezTo>
                  <a:pt x="7273" y="9649"/>
                  <a:pt x="7259" y="9646"/>
                  <a:pt x="7243" y="9674"/>
                </a:cubicBezTo>
              </a:path>
              <a:path w="546" h="472">
                <a:moveTo>
                  <a:pt x="7590" y="9252"/>
                </a:moveTo>
                <a:cubicBezTo>
                  <a:pt x="7598" y="9236"/>
                  <a:pt x="7607" y="9219"/>
                  <a:pt x="7615" y="9203"/>
                </a:cubicBezTo>
                <a:cubicBezTo>
                  <a:pt x="7574" y="9213"/>
                  <a:pt x="7513" y="9261"/>
                  <a:pt x="7491" y="9302"/>
                </a:cubicBezTo>
                <a:cubicBezTo>
                  <a:pt x="7457" y="9364"/>
                  <a:pt x="7448" y="9466"/>
                  <a:pt x="7491" y="9525"/>
                </a:cubicBezTo>
                <a:cubicBezTo>
                  <a:pt x="7548" y="9604"/>
                  <a:pt x="7614" y="9579"/>
                  <a:pt x="7689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36960" y="3251160"/>
            <a:ext cx="293760" cy="2491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9252" y="9376"/>
                </a:moveTo>
                <a:cubicBezTo>
                  <a:pt x="9223" y="9383"/>
                  <a:pt x="9149" y="9427"/>
                  <a:pt x="9128" y="9451"/>
                </a:cubicBezTo>
                <a:cubicBezTo>
                  <a:pt x="9079" y="9507"/>
                  <a:pt x="9015" y="9563"/>
                  <a:pt x="8979" y="9624"/>
                </a:cubicBezTo>
                <a:cubicBezTo>
                  <a:pt x="8953" y="9668"/>
                  <a:pt x="8940" y="9688"/>
                  <a:pt x="8905" y="9723"/>
                </a:cubicBezTo>
              </a:path>
              <a:path w="819" h="695">
                <a:moveTo>
                  <a:pt x="9252" y="9376"/>
                </a:moveTo>
                <a:cubicBezTo>
                  <a:pt x="9239" y="9336"/>
                  <a:pt x="9213" y="9351"/>
                  <a:pt x="9178" y="9327"/>
                </a:cubicBezTo>
                <a:cubicBezTo>
                  <a:pt x="9096" y="9273"/>
                  <a:pt x="9016" y="9246"/>
                  <a:pt x="8930" y="9203"/>
                </a:cubicBezTo>
                <a:cubicBezTo>
                  <a:pt x="8825" y="9150"/>
                  <a:pt x="8701" y="9075"/>
                  <a:pt x="8582" y="9054"/>
                </a:cubicBezTo>
                <a:cubicBezTo>
                  <a:pt x="8529" y="9045"/>
                  <a:pt x="8485" y="9039"/>
                  <a:pt x="8434" y="90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4200" y="3251160"/>
            <a:ext cx="258840" cy="249120"/>
          </a:xfrm>
          <a:custGeom>
            <a:avLst/>
            <a:gdLst/>
            <a:ahLst/>
            <a:rect l="l" t="t" r="r" b="b"/>
            <a:pathLst>
              <a:path w="720" h="695">
                <a:moveTo>
                  <a:pt x="10418" y="9277"/>
                </a:moveTo>
                <a:cubicBezTo>
                  <a:pt x="10383" y="9251"/>
                  <a:pt x="10387" y="9252"/>
                  <a:pt x="10344" y="9252"/>
                </a:cubicBezTo>
                <a:cubicBezTo>
                  <a:pt x="10344" y="9210"/>
                  <a:pt x="10359" y="9157"/>
                  <a:pt x="10393" y="9128"/>
                </a:cubicBezTo>
                <a:cubicBezTo>
                  <a:pt x="10436" y="9091"/>
                  <a:pt x="10497" y="9011"/>
                  <a:pt x="10567" y="9029"/>
                </a:cubicBezTo>
                <a:cubicBezTo>
                  <a:pt x="10673" y="9056"/>
                  <a:pt x="10638" y="9154"/>
                  <a:pt x="10616" y="9227"/>
                </a:cubicBezTo>
                <a:cubicBezTo>
                  <a:pt x="10583" y="9338"/>
                  <a:pt x="10524" y="9426"/>
                  <a:pt x="10468" y="9525"/>
                </a:cubicBezTo>
                <a:cubicBezTo>
                  <a:pt x="10447" y="9563"/>
                  <a:pt x="10421" y="9655"/>
                  <a:pt x="10443" y="9699"/>
                </a:cubicBezTo>
                <a:cubicBezTo>
                  <a:pt x="10487" y="9786"/>
                  <a:pt x="10624" y="9668"/>
                  <a:pt x="10666" y="9649"/>
                </a:cubicBezTo>
                <a:cubicBezTo>
                  <a:pt x="10772" y="9601"/>
                  <a:pt x="10875" y="9599"/>
                  <a:pt x="10988" y="9599"/>
                </a:cubicBezTo>
                <a:cubicBezTo>
                  <a:pt x="11013" y="9599"/>
                  <a:pt x="11038" y="9599"/>
                  <a:pt x="11063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1120" y="2330280"/>
            <a:ext cx="115920" cy="15264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23416" y="6648"/>
                </a:moveTo>
                <a:cubicBezTo>
                  <a:pt x="23432" y="6640"/>
                  <a:pt x="23449" y="6631"/>
                  <a:pt x="23465" y="6623"/>
                </a:cubicBezTo>
                <a:cubicBezTo>
                  <a:pt x="23400" y="6623"/>
                  <a:pt x="23376" y="6627"/>
                  <a:pt x="23316" y="6648"/>
                </a:cubicBezTo>
                <a:cubicBezTo>
                  <a:pt x="23253" y="6671"/>
                  <a:pt x="23207" y="6672"/>
                  <a:pt x="23143" y="6672"/>
                </a:cubicBezTo>
              </a:path>
              <a:path w="323" h="423">
                <a:moveTo>
                  <a:pt x="23242" y="6474"/>
                </a:moveTo>
                <a:cubicBezTo>
                  <a:pt x="23328" y="6486"/>
                  <a:pt x="23334" y="6528"/>
                  <a:pt x="23316" y="6623"/>
                </a:cubicBezTo>
                <a:cubicBezTo>
                  <a:pt x="23298" y="6722"/>
                  <a:pt x="23267" y="6792"/>
                  <a:pt x="23267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2960" y="2259000"/>
            <a:ext cx="304920" cy="2332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3812" y="6350"/>
                </a:moveTo>
                <a:cubicBezTo>
                  <a:pt x="23804" y="6350"/>
                  <a:pt x="23796" y="6350"/>
                  <a:pt x="23788" y="6350"/>
                </a:cubicBezTo>
                <a:cubicBezTo>
                  <a:pt x="23797" y="6323"/>
                  <a:pt x="23843" y="6286"/>
                  <a:pt x="23887" y="6276"/>
                </a:cubicBezTo>
                <a:cubicBezTo>
                  <a:pt x="23926" y="6267"/>
                  <a:pt x="24030" y="6265"/>
                  <a:pt x="24061" y="6300"/>
                </a:cubicBezTo>
                <a:cubicBezTo>
                  <a:pt x="24089" y="6331"/>
                  <a:pt x="24034" y="6429"/>
                  <a:pt x="24011" y="6449"/>
                </a:cubicBezTo>
                <a:cubicBezTo>
                  <a:pt x="23961" y="6491"/>
                  <a:pt x="23902" y="6500"/>
                  <a:pt x="23887" y="6573"/>
                </a:cubicBezTo>
                <a:cubicBezTo>
                  <a:pt x="23868" y="6669"/>
                  <a:pt x="23926" y="6650"/>
                  <a:pt x="23986" y="6697"/>
                </a:cubicBezTo>
                <a:cubicBezTo>
                  <a:pt x="24032" y="6733"/>
                  <a:pt x="24097" y="6768"/>
                  <a:pt x="24110" y="6821"/>
                </a:cubicBezTo>
                <a:cubicBezTo>
                  <a:pt x="24072" y="6850"/>
                  <a:pt x="24015" y="6883"/>
                  <a:pt x="23961" y="6871"/>
                </a:cubicBezTo>
                <a:cubicBezTo>
                  <a:pt x="23913" y="6847"/>
                  <a:pt x="23899" y="6838"/>
                  <a:pt x="23862" y="6846"/>
                </a:cubicBezTo>
              </a:path>
              <a:path w="844" h="646">
                <a:moveTo>
                  <a:pt x="24160" y="6598"/>
                </a:moveTo>
                <a:cubicBezTo>
                  <a:pt x="24093" y="6598"/>
                  <a:pt x="24244" y="6578"/>
                  <a:pt x="24259" y="6573"/>
                </a:cubicBezTo>
                <a:cubicBezTo>
                  <a:pt x="24336" y="6547"/>
                  <a:pt x="24376" y="6527"/>
                  <a:pt x="24408" y="6623"/>
                </a:cubicBezTo>
                <a:cubicBezTo>
                  <a:pt x="24427" y="6681"/>
                  <a:pt x="24395" y="6710"/>
                  <a:pt x="24358" y="6747"/>
                </a:cubicBezTo>
                <a:cubicBezTo>
                  <a:pt x="24325" y="6780"/>
                  <a:pt x="24304" y="6772"/>
                  <a:pt x="24259" y="6772"/>
                </a:cubicBezTo>
              </a:path>
              <a:path w="844" h="646">
                <a:moveTo>
                  <a:pt x="24507" y="6548"/>
                </a:moveTo>
                <a:cubicBezTo>
                  <a:pt x="24485" y="6603"/>
                  <a:pt x="24423" y="6655"/>
                  <a:pt x="24408" y="6722"/>
                </a:cubicBezTo>
                <a:cubicBezTo>
                  <a:pt x="24395" y="6780"/>
                  <a:pt x="24406" y="6859"/>
                  <a:pt x="24457" y="6896"/>
                </a:cubicBezTo>
                <a:cubicBezTo>
                  <a:pt x="24522" y="6943"/>
                  <a:pt x="24566" y="6918"/>
                  <a:pt x="24631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3040" y="2581200"/>
            <a:ext cx="331920" cy="21456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3664" y="7441"/>
                </a:moveTo>
                <a:cubicBezTo>
                  <a:pt x="23728" y="7441"/>
                  <a:pt x="23625" y="7441"/>
                  <a:pt x="23614" y="7441"/>
                </a:cubicBezTo>
                <a:cubicBezTo>
                  <a:pt x="23515" y="7441"/>
                  <a:pt x="23415" y="7441"/>
                  <a:pt x="23316" y="7441"/>
                </a:cubicBezTo>
              </a:path>
              <a:path w="919" h="596">
                <a:moveTo>
                  <a:pt x="23391" y="7342"/>
                </a:moveTo>
                <a:cubicBezTo>
                  <a:pt x="23411" y="7302"/>
                  <a:pt x="23409" y="7286"/>
                  <a:pt x="23440" y="7293"/>
                </a:cubicBezTo>
                <a:cubicBezTo>
                  <a:pt x="23440" y="7392"/>
                  <a:pt x="23440" y="7491"/>
                  <a:pt x="23440" y="7590"/>
                </a:cubicBezTo>
              </a:path>
              <a:path w="919" h="596">
                <a:moveTo>
                  <a:pt x="24036" y="7169"/>
                </a:moveTo>
                <a:cubicBezTo>
                  <a:pt x="24052" y="7169"/>
                  <a:pt x="24069" y="7169"/>
                  <a:pt x="24085" y="7169"/>
                </a:cubicBezTo>
                <a:cubicBezTo>
                  <a:pt x="24034" y="7233"/>
                  <a:pt x="23985" y="7298"/>
                  <a:pt x="23937" y="7367"/>
                </a:cubicBezTo>
                <a:cubicBezTo>
                  <a:pt x="23871" y="7461"/>
                  <a:pt x="23851" y="7597"/>
                  <a:pt x="23937" y="7689"/>
                </a:cubicBezTo>
                <a:cubicBezTo>
                  <a:pt x="23990" y="7745"/>
                  <a:pt x="24106" y="7789"/>
                  <a:pt x="24185" y="7764"/>
                </a:cubicBezTo>
                <a:cubicBezTo>
                  <a:pt x="24222" y="7752"/>
                  <a:pt x="24228" y="7694"/>
                  <a:pt x="24234" y="7665"/>
                </a:cubicBezTo>
                <a:cubicBezTo>
                  <a:pt x="24187" y="7637"/>
                  <a:pt x="24095" y="7622"/>
                  <a:pt x="24036" y="7615"/>
                </a:cubicBezTo>
                <a:cubicBezTo>
                  <a:pt x="23961" y="7615"/>
                  <a:pt x="23937" y="7615"/>
                  <a:pt x="23887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2840040"/>
            <a:ext cx="241200" cy="554040"/>
          </a:xfrm>
          <a:custGeom>
            <a:avLst/>
            <a:gdLst/>
            <a:ahLst/>
            <a:rect l="l" t="t" r="r" b="b"/>
            <a:pathLst>
              <a:path w="671" h="1539">
                <a:moveTo>
                  <a:pt x="19224" y="7938"/>
                </a:moveTo>
                <a:cubicBezTo>
                  <a:pt x="19212" y="7888"/>
                  <a:pt x="19200" y="7888"/>
                  <a:pt x="19149" y="7888"/>
                </a:cubicBezTo>
                <a:cubicBezTo>
                  <a:pt x="19122" y="7888"/>
                  <a:pt x="19067" y="7914"/>
                  <a:pt x="19050" y="7938"/>
                </a:cubicBezTo>
                <a:cubicBezTo>
                  <a:pt x="19016" y="7986"/>
                  <a:pt x="18986" y="8039"/>
                  <a:pt x="18951" y="8086"/>
                </a:cubicBezTo>
                <a:cubicBezTo>
                  <a:pt x="18918" y="8130"/>
                  <a:pt x="18922" y="8184"/>
                  <a:pt x="18901" y="8235"/>
                </a:cubicBezTo>
                <a:cubicBezTo>
                  <a:pt x="18873" y="8305"/>
                  <a:pt x="18876" y="8358"/>
                  <a:pt x="18876" y="8434"/>
                </a:cubicBezTo>
                <a:cubicBezTo>
                  <a:pt x="18876" y="8510"/>
                  <a:pt x="18880" y="8546"/>
                  <a:pt x="18926" y="8607"/>
                </a:cubicBezTo>
                <a:cubicBezTo>
                  <a:pt x="18953" y="8643"/>
                  <a:pt x="18985" y="8632"/>
                  <a:pt x="19025" y="8632"/>
                </a:cubicBezTo>
                <a:cubicBezTo>
                  <a:pt x="19070" y="8632"/>
                  <a:pt x="19136" y="8604"/>
                  <a:pt x="19174" y="8582"/>
                </a:cubicBezTo>
                <a:cubicBezTo>
                  <a:pt x="19214" y="8559"/>
                  <a:pt x="19259" y="8500"/>
                  <a:pt x="19273" y="8458"/>
                </a:cubicBezTo>
                <a:cubicBezTo>
                  <a:pt x="19288" y="8413"/>
                  <a:pt x="19259" y="8392"/>
                  <a:pt x="19248" y="8359"/>
                </a:cubicBezTo>
                <a:cubicBezTo>
                  <a:pt x="19239" y="8331"/>
                  <a:pt x="19215" y="8313"/>
                  <a:pt x="19174" y="8310"/>
                </a:cubicBezTo>
                <a:cubicBezTo>
                  <a:pt x="19108" y="8305"/>
                  <a:pt x="19087" y="8329"/>
                  <a:pt x="19025" y="8334"/>
                </a:cubicBezTo>
                <a:cubicBezTo>
                  <a:pt x="18980" y="8338"/>
                  <a:pt x="18933" y="8355"/>
                  <a:pt x="18901" y="8384"/>
                </a:cubicBezTo>
                <a:cubicBezTo>
                  <a:pt x="18864" y="8417"/>
                  <a:pt x="18840" y="8407"/>
                  <a:pt x="18827" y="8458"/>
                </a:cubicBezTo>
              </a:path>
              <a:path w="671" h="1539">
                <a:moveTo>
                  <a:pt x="18703" y="9054"/>
                </a:moveTo>
                <a:cubicBezTo>
                  <a:pt x="18695" y="9062"/>
                  <a:pt x="18686" y="9071"/>
                  <a:pt x="18678" y="9079"/>
                </a:cubicBezTo>
                <a:cubicBezTo>
                  <a:pt x="18693" y="9018"/>
                  <a:pt x="18729" y="9018"/>
                  <a:pt x="18777" y="8979"/>
                </a:cubicBezTo>
                <a:cubicBezTo>
                  <a:pt x="18820" y="8944"/>
                  <a:pt x="18886" y="8899"/>
                  <a:pt x="18951" y="8930"/>
                </a:cubicBezTo>
                <a:cubicBezTo>
                  <a:pt x="19045" y="8975"/>
                  <a:pt x="18926" y="9133"/>
                  <a:pt x="18901" y="9178"/>
                </a:cubicBezTo>
                <a:cubicBezTo>
                  <a:pt x="18869" y="9235"/>
                  <a:pt x="18833" y="9312"/>
                  <a:pt x="18827" y="9376"/>
                </a:cubicBezTo>
                <a:cubicBezTo>
                  <a:pt x="18818" y="9468"/>
                  <a:pt x="18966" y="9411"/>
                  <a:pt x="19000" y="9401"/>
                </a:cubicBezTo>
                <a:cubicBezTo>
                  <a:pt x="19111" y="9367"/>
                  <a:pt x="19232" y="9360"/>
                  <a:pt x="1934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0040" y="2955960"/>
            <a:ext cx="179640" cy="384120"/>
          </a:xfrm>
          <a:custGeom>
            <a:avLst/>
            <a:gdLst/>
            <a:ahLst/>
            <a:rect l="l" t="t" r="r" b="b"/>
            <a:pathLst>
              <a:path w="498" h="1068">
                <a:moveTo>
                  <a:pt x="20439" y="8260"/>
                </a:moveTo>
                <a:cubicBezTo>
                  <a:pt x="20464" y="8260"/>
                  <a:pt x="20472" y="8260"/>
                  <a:pt x="20489" y="8260"/>
                </a:cubicBezTo>
                <a:cubicBezTo>
                  <a:pt x="20489" y="8222"/>
                  <a:pt x="20490" y="8192"/>
                  <a:pt x="20439" y="8210"/>
                </a:cubicBezTo>
                <a:cubicBezTo>
                  <a:pt x="20398" y="8225"/>
                  <a:pt x="20326" y="8261"/>
                  <a:pt x="20290" y="8285"/>
                </a:cubicBezTo>
                <a:cubicBezTo>
                  <a:pt x="20232" y="8323"/>
                  <a:pt x="20198" y="8387"/>
                  <a:pt x="20166" y="8434"/>
                </a:cubicBezTo>
                <a:cubicBezTo>
                  <a:pt x="20158" y="8442"/>
                  <a:pt x="20149" y="8450"/>
                  <a:pt x="20141" y="8458"/>
                </a:cubicBezTo>
                <a:cubicBezTo>
                  <a:pt x="20208" y="8458"/>
                  <a:pt x="20260" y="8445"/>
                  <a:pt x="20315" y="8434"/>
                </a:cubicBezTo>
                <a:cubicBezTo>
                  <a:pt x="20385" y="8421"/>
                  <a:pt x="20434" y="8440"/>
                  <a:pt x="20489" y="8458"/>
                </a:cubicBezTo>
                <a:cubicBezTo>
                  <a:pt x="20515" y="8467"/>
                  <a:pt x="20560" y="8458"/>
                  <a:pt x="20588" y="8458"/>
                </a:cubicBezTo>
              </a:path>
              <a:path w="498" h="1068">
                <a:moveTo>
                  <a:pt x="20613" y="9004"/>
                </a:moveTo>
                <a:cubicBezTo>
                  <a:pt x="20613" y="8979"/>
                  <a:pt x="20613" y="8971"/>
                  <a:pt x="20638" y="8979"/>
                </a:cubicBezTo>
                <a:cubicBezTo>
                  <a:pt x="20591" y="8979"/>
                  <a:pt x="20575" y="8996"/>
                  <a:pt x="20538" y="9004"/>
                </a:cubicBezTo>
                <a:cubicBezTo>
                  <a:pt x="20465" y="9020"/>
                  <a:pt x="20432" y="9044"/>
                  <a:pt x="20365" y="9079"/>
                </a:cubicBezTo>
                <a:cubicBezTo>
                  <a:pt x="20312" y="9107"/>
                  <a:pt x="20283" y="9136"/>
                  <a:pt x="20241" y="9178"/>
                </a:cubicBezTo>
                <a:cubicBezTo>
                  <a:pt x="20211" y="9208"/>
                  <a:pt x="20200" y="9224"/>
                  <a:pt x="20191" y="9252"/>
                </a:cubicBezTo>
                <a:cubicBezTo>
                  <a:pt x="20288" y="9252"/>
                  <a:pt x="20374" y="9262"/>
                  <a:pt x="20464" y="9277"/>
                </a:cubicBezTo>
                <a:cubicBezTo>
                  <a:pt x="20518" y="9286"/>
                  <a:pt x="20582" y="9277"/>
                  <a:pt x="2063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70880" y="2830680"/>
            <a:ext cx="509400" cy="571320"/>
          </a:xfrm>
          <a:custGeom>
            <a:avLst/>
            <a:gdLst/>
            <a:ahLst/>
            <a:rect l="l" t="t" r="r" b="b"/>
            <a:pathLst>
              <a:path w="1415" h="1589">
                <a:moveTo>
                  <a:pt x="21332" y="8012"/>
                </a:moveTo>
                <a:cubicBezTo>
                  <a:pt x="21310" y="8005"/>
                  <a:pt x="21287" y="7973"/>
                  <a:pt x="21307" y="7938"/>
                </a:cubicBezTo>
                <a:cubicBezTo>
                  <a:pt x="21337" y="7884"/>
                  <a:pt x="21428" y="7865"/>
                  <a:pt x="21481" y="7863"/>
                </a:cubicBezTo>
                <a:cubicBezTo>
                  <a:pt x="21539" y="7860"/>
                  <a:pt x="21625" y="7845"/>
                  <a:pt x="21654" y="7913"/>
                </a:cubicBezTo>
                <a:cubicBezTo>
                  <a:pt x="21680" y="7973"/>
                  <a:pt x="21624" y="8031"/>
                  <a:pt x="21580" y="8062"/>
                </a:cubicBezTo>
                <a:cubicBezTo>
                  <a:pt x="21535" y="8093"/>
                  <a:pt x="21456" y="8131"/>
                  <a:pt x="21431" y="8186"/>
                </a:cubicBezTo>
                <a:cubicBezTo>
                  <a:pt x="21412" y="8227"/>
                  <a:pt x="21506" y="8275"/>
                  <a:pt x="21530" y="8285"/>
                </a:cubicBezTo>
                <a:cubicBezTo>
                  <a:pt x="21617" y="8321"/>
                  <a:pt x="21700" y="8347"/>
                  <a:pt x="21754" y="8434"/>
                </a:cubicBezTo>
                <a:cubicBezTo>
                  <a:pt x="21773" y="8464"/>
                  <a:pt x="21758" y="8539"/>
                  <a:pt x="21729" y="8558"/>
                </a:cubicBezTo>
                <a:cubicBezTo>
                  <a:pt x="21680" y="8591"/>
                  <a:pt x="21561" y="8601"/>
                  <a:pt x="21506" y="8582"/>
                </a:cubicBezTo>
                <a:cubicBezTo>
                  <a:pt x="21498" y="8574"/>
                  <a:pt x="21489" y="8566"/>
                  <a:pt x="21481" y="8558"/>
                </a:cubicBezTo>
              </a:path>
              <a:path w="1415" h="1589">
                <a:moveTo>
                  <a:pt x="22002" y="8384"/>
                </a:moveTo>
                <a:cubicBezTo>
                  <a:pt x="21932" y="8303"/>
                  <a:pt x="21952" y="8335"/>
                  <a:pt x="21977" y="8260"/>
                </a:cubicBezTo>
                <a:cubicBezTo>
                  <a:pt x="21997" y="8201"/>
                  <a:pt x="22043" y="8210"/>
                  <a:pt x="22101" y="8210"/>
                </a:cubicBezTo>
                <a:cubicBezTo>
                  <a:pt x="22199" y="8210"/>
                  <a:pt x="22232" y="8264"/>
                  <a:pt x="22250" y="8359"/>
                </a:cubicBezTo>
                <a:cubicBezTo>
                  <a:pt x="22261" y="8419"/>
                  <a:pt x="22253" y="8495"/>
                  <a:pt x="22200" y="8533"/>
                </a:cubicBezTo>
                <a:cubicBezTo>
                  <a:pt x="22161" y="8561"/>
                  <a:pt x="22079" y="8603"/>
                  <a:pt x="22027" y="8582"/>
                </a:cubicBezTo>
                <a:cubicBezTo>
                  <a:pt x="22002" y="8558"/>
                  <a:pt x="21993" y="8550"/>
                  <a:pt x="21977" y="8533"/>
                </a:cubicBezTo>
              </a:path>
              <a:path w="1415" h="1589">
                <a:moveTo>
                  <a:pt x="22399" y="8235"/>
                </a:moveTo>
                <a:cubicBezTo>
                  <a:pt x="22438" y="8196"/>
                  <a:pt x="22454" y="8195"/>
                  <a:pt x="22448" y="8161"/>
                </a:cubicBezTo>
                <a:cubicBezTo>
                  <a:pt x="22376" y="8161"/>
                  <a:pt x="22358" y="8199"/>
                  <a:pt x="22324" y="8260"/>
                </a:cubicBezTo>
                <a:cubicBezTo>
                  <a:pt x="22269" y="8359"/>
                  <a:pt x="22321" y="8459"/>
                  <a:pt x="22399" y="8533"/>
                </a:cubicBezTo>
                <a:cubicBezTo>
                  <a:pt x="22507" y="8636"/>
                  <a:pt x="22605" y="8611"/>
                  <a:pt x="22721" y="8558"/>
                </a:cubicBezTo>
              </a:path>
              <a:path w="1415" h="1589">
                <a:moveTo>
                  <a:pt x="21530" y="9227"/>
                </a:moveTo>
                <a:cubicBezTo>
                  <a:pt x="21489" y="9227"/>
                  <a:pt x="21481" y="9227"/>
                  <a:pt x="21456" y="9227"/>
                </a:cubicBezTo>
                <a:cubicBezTo>
                  <a:pt x="21468" y="9179"/>
                  <a:pt x="21489" y="9171"/>
                  <a:pt x="21530" y="9153"/>
                </a:cubicBezTo>
                <a:cubicBezTo>
                  <a:pt x="21604" y="9121"/>
                  <a:pt x="21661" y="9117"/>
                  <a:pt x="21704" y="9203"/>
                </a:cubicBezTo>
                <a:cubicBezTo>
                  <a:pt x="21739" y="9272"/>
                  <a:pt x="21747" y="9372"/>
                  <a:pt x="21679" y="9426"/>
                </a:cubicBezTo>
                <a:cubicBezTo>
                  <a:pt x="21630" y="9465"/>
                  <a:pt x="21564" y="9451"/>
                  <a:pt x="21506" y="9451"/>
                </a:cubicBezTo>
                <a:cubicBezTo>
                  <a:pt x="21489" y="9451"/>
                  <a:pt x="21473" y="9451"/>
                  <a:pt x="21456" y="9451"/>
                </a:cubicBezTo>
              </a:path>
              <a:path w="1415" h="1589">
                <a:moveTo>
                  <a:pt x="21828" y="9128"/>
                </a:moveTo>
                <a:cubicBezTo>
                  <a:pt x="21828" y="9070"/>
                  <a:pt x="21828" y="9062"/>
                  <a:pt x="21828" y="9029"/>
                </a:cubicBezTo>
                <a:cubicBezTo>
                  <a:pt x="21780" y="9078"/>
                  <a:pt x="21779" y="9084"/>
                  <a:pt x="21779" y="9153"/>
                </a:cubicBezTo>
                <a:cubicBezTo>
                  <a:pt x="21779" y="9256"/>
                  <a:pt x="21822" y="9336"/>
                  <a:pt x="21927" y="9376"/>
                </a:cubicBezTo>
                <a:cubicBezTo>
                  <a:pt x="21988" y="9399"/>
                  <a:pt x="22070" y="9365"/>
                  <a:pt x="22126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7564"/>
          <a:stretch/>
        </p:blipFill>
        <p:spPr>
          <a:xfrm>
            <a:off x="0" y="-243000"/>
            <a:ext cx="8858160" cy="436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4336" r="0" b="19170"/>
          <a:stretch/>
        </p:blipFill>
        <p:spPr>
          <a:xfrm>
            <a:off x="0" y="4076640"/>
            <a:ext cx="6105600" cy="252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0" r="0" b="55642"/>
          <a:stretch/>
        </p:blipFill>
        <p:spPr>
          <a:xfrm>
            <a:off x="0" y="0"/>
            <a:ext cx="8858160" cy="234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58973" t="59017" r="11543" b="19170"/>
          <a:stretch/>
        </p:blipFill>
        <p:spPr>
          <a:xfrm>
            <a:off x="3419640" y="5877000"/>
            <a:ext cx="1800000" cy="718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92720" y="3141720"/>
            <a:ext cx="360036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types of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inequality” means “give the complete ran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an integer value” means “give a certain example” (e.g. the largest, smallest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rcRect l="58973" t="13108" r="0" b="58482"/>
          <a:stretch/>
        </p:blipFill>
        <p:spPr>
          <a:xfrm>
            <a:off x="2843280" y="4365720"/>
            <a:ext cx="2504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3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025" t="0" r="0" b="0"/>
          <a:stretch/>
        </p:blipFill>
        <p:spPr>
          <a:xfrm>
            <a:off x="0" y="1916280"/>
            <a:ext cx="8820000" cy="1056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907920"/>
            <a:ext cx="939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03640" y="1044720"/>
            <a:ext cx="1223640" cy="214200"/>
          </a:xfrm>
          <a:custGeom>
            <a:avLst/>
            <a:gdLst/>
            <a:ahLst/>
            <a:rect l="l" t="t" r="r" b="b"/>
            <a:pathLst>
              <a:path w="3399" h="596">
                <a:moveTo>
                  <a:pt x="8384" y="3125"/>
                </a:moveTo>
                <a:cubicBezTo>
                  <a:pt x="8359" y="3150"/>
                  <a:pt x="8351" y="3158"/>
                  <a:pt x="8334" y="3125"/>
                </a:cubicBezTo>
                <a:cubicBezTo>
                  <a:pt x="8366" y="3094"/>
                  <a:pt x="8390" y="3056"/>
                  <a:pt x="8434" y="3051"/>
                </a:cubicBezTo>
                <a:cubicBezTo>
                  <a:pt x="8501" y="3043"/>
                  <a:pt x="8533" y="3101"/>
                  <a:pt x="8558" y="3150"/>
                </a:cubicBezTo>
                <a:cubicBezTo>
                  <a:pt x="8588" y="3207"/>
                  <a:pt x="8591" y="3236"/>
                  <a:pt x="8533" y="3274"/>
                </a:cubicBezTo>
                <a:cubicBezTo>
                  <a:pt x="8469" y="3315"/>
                  <a:pt x="8447" y="3298"/>
                  <a:pt x="8384" y="3274"/>
                </a:cubicBezTo>
              </a:path>
              <a:path w="3399" h="596">
                <a:moveTo>
                  <a:pt x="8632" y="3026"/>
                </a:moveTo>
                <a:cubicBezTo>
                  <a:pt x="8640" y="3018"/>
                  <a:pt x="8649" y="3009"/>
                  <a:pt x="8657" y="3001"/>
                </a:cubicBezTo>
                <a:cubicBezTo>
                  <a:pt x="8598" y="3016"/>
                  <a:pt x="8586" y="3040"/>
                  <a:pt x="8582" y="3101"/>
                </a:cubicBezTo>
                <a:cubicBezTo>
                  <a:pt x="8578" y="3165"/>
                  <a:pt x="8583" y="3207"/>
                  <a:pt x="8657" y="3225"/>
                </a:cubicBezTo>
                <a:cubicBezTo>
                  <a:pt x="8673" y="3225"/>
                  <a:pt x="8690" y="3225"/>
                  <a:pt x="8706" y="3225"/>
                </a:cubicBezTo>
              </a:path>
              <a:path w="3399" h="596">
                <a:moveTo>
                  <a:pt x="9227" y="3051"/>
                </a:moveTo>
                <a:cubicBezTo>
                  <a:pt x="9294" y="3051"/>
                  <a:pt x="9189" y="3051"/>
                  <a:pt x="9178" y="3051"/>
                </a:cubicBezTo>
                <a:cubicBezTo>
                  <a:pt x="9112" y="3051"/>
                  <a:pt x="9045" y="3051"/>
                  <a:pt x="8979" y="3051"/>
                </a:cubicBezTo>
              </a:path>
              <a:path w="3399" h="596">
                <a:moveTo>
                  <a:pt x="9004" y="2927"/>
                </a:moveTo>
                <a:cubicBezTo>
                  <a:pt x="9012" y="2919"/>
                  <a:pt x="9021" y="2910"/>
                  <a:pt x="9029" y="2902"/>
                </a:cubicBezTo>
                <a:cubicBezTo>
                  <a:pt x="9029" y="3001"/>
                  <a:pt x="9029" y="3101"/>
                  <a:pt x="9029" y="3200"/>
                </a:cubicBezTo>
              </a:path>
              <a:path w="3399" h="596">
                <a:moveTo>
                  <a:pt x="9401" y="2977"/>
                </a:moveTo>
                <a:cubicBezTo>
                  <a:pt x="9401" y="2969"/>
                  <a:pt x="9401" y="2960"/>
                  <a:pt x="9401" y="2952"/>
                </a:cubicBezTo>
                <a:cubicBezTo>
                  <a:pt x="9427" y="2995"/>
                  <a:pt x="9416" y="3044"/>
                  <a:pt x="9475" y="3051"/>
                </a:cubicBezTo>
                <a:cubicBezTo>
                  <a:pt x="9533" y="3058"/>
                  <a:pt x="9555" y="3013"/>
                  <a:pt x="9599" y="3001"/>
                </a:cubicBezTo>
                <a:cubicBezTo>
                  <a:pt x="9691" y="2976"/>
                  <a:pt x="9746" y="3059"/>
                  <a:pt x="9773" y="3125"/>
                </a:cubicBezTo>
                <a:cubicBezTo>
                  <a:pt x="9814" y="3227"/>
                  <a:pt x="9810" y="3301"/>
                  <a:pt x="9723" y="3373"/>
                </a:cubicBezTo>
                <a:cubicBezTo>
                  <a:pt x="9632" y="3447"/>
                  <a:pt x="9490" y="3483"/>
                  <a:pt x="9376" y="3497"/>
                </a:cubicBezTo>
                <a:cubicBezTo>
                  <a:pt x="9329" y="3503"/>
                  <a:pt x="9275" y="3497"/>
                  <a:pt x="9227" y="3497"/>
                </a:cubicBezTo>
              </a:path>
              <a:path w="3399" h="596">
                <a:moveTo>
                  <a:pt x="8037" y="2927"/>
                </a:moveTo>
                <a:cubicBezTo>
                  <a:pt x="8030" y="2905"/>
                  <a:pt x="7998" y="2882"/>
                  <a:pt x="7962" y="2902"/>
                </a:cubicBezTo>
                <a:cubicBezTo>
                  <a:pt x="7932" y="2919"/>
                  <a:pt x="7889" y="2935"/>
                  <a:pt x="7863" y="2952"/>
                </a:cubicBezTo>
                <a:cubicBezTo>
                  <a:pt x="7828" y="2976"/>
                  <a:pt x="7803" y="3013"/>
                  <a:pt x="7764" y="3026"/>
                </a:cubicBezTo>
                <a:cubicBezTo>
                  <a:pt x="7718" y="3041"/>
                  <a:pt x="7685" y="3086"/>
                  <a:pt x="7640" y="3101"/>
                </a:cubicBezTo>
                <a:cubicBezTo>
                  <a:pt x="7615" y="3101"/>
                  <a:pt x="7607" y="3101"/>
                  <a:pt x="7615" y="3125"/>
                </a:cubicBezTo>
                <a:cubicBezTo>
                  <a:pt x="7661" y="3125"/>
                  <a:pt x="7673" y="3145"/>
                  <a:pt x="7714" y="3150"/>
                </a:cubicBezTo>
                <a:cubicBezTo>
                  <a:pt x="7782" y="3158"/>
                  <a:pt x="7830" y="3156"/>
                  <a:pt x="7888" y="3175"/>
                </a:cubicBezTo>
                <a:cubicBezTo>
                  <a:pt x="7931" y="3189"/>
                  <a:pt x="7921" y="3168"/>
                  <a:pt x="7962" y="3200"/>
                </a:cubicBezTo>
              </a:path>
              <a:path w="3399" h="596">
                <a:moveTo>
                  <a:pt x="6400" y="2977"/>
                </a:moveTo>
                <a:cubicBezTo>
                  <a:pt x="6400" y="2949"/>
                  <a:pt x="6402" y="2938"/>
                  <a:pt x="6424" y="2927"/>
                </a:cubicBezTo>
                <a:cubicBezTo>
                  <a:pt x="6424" y="3043"/>
                  <a:pt x="6424" y="3158"/>
                  <a:pt x="6424" y="3274"/>
                </a:cubicBezTo>
                <a:cubicBezTo>
                  <a:pt x="6506" y="3274"/>
                  <a:pt x="6579" y="3263"/>
                  <a:pt x="6648" y="3249"/>
                </a:cubicBezTo>
                <a:cubicBezTo>
                  <a:pt x="6692" y="3240"/>
                  <a:pt x="6750" y="3249"/>
                  <a:pt x="6796" y="3249"/>
                </a:cubicBezTo>
              </a:path>
              <a:path w="3399" h="596">
                <a:moveTo>
                  <a:pt x="6623" y="3175"/>
                </a:moveTo>
                <a:cubicBezTo>
                  <a:pt x="6580" y="3246"/>
                  <a:pt x="6610" y="3250"/>
                  <a:pt x="6623" y="3324"/>
                </a:cubicBezTo>
                <a:cubicBezTo>
                  <a:pt x="6631" y="3370"/>
                  <a:pt x="6638" y="3383"/>
                  <a:pt x="6648" y="3423"/>
                </a:cubicBezTo>
              </a:path>
              <a:path w="3399" h="596">
                <a:moveTo>
                  <a:pt x="6995" y="3150"/>
                </a:moveTo>
                <a:cubicBezTo>
                  <a:pt x="6995" y="3116"/>
                  <a:pt x="6982" y="3070"/>
                  <a:pt x="7020" y="3051"/>
                </a:cubicBezTo>
                <a:cubicBezTo>
                  <a:pt x="7052" y="3035"/>
                  <a:pt x="7104" y="3011"/>
                  <a:pt x="7144" y="3001"/>
                </a:cubicBezTo>
                <a:cubicBezTo>
                  <a:pt x="7194" y="2988"/>
                  <a:pt x="7234" y="3020"/>
                  <a:pt x="7268" y="3051"/>
                </a:cubicBezTo>
                <a:cubicBezTo>
                  <a:pt x="7307" y="3086"/>
                  <a:pt x="7338" y="3121"/>
                  <a:pt x="7342" y="3175"/>
                </a:cubicBezTo>
                <a:cubicBezTo>
                  <a:pt x="7346" y="3228"/>
                  <a:pt x="7350" y="3261"/>
                  <a:pt x="7317" y="3299"/>
                </a:cubicBezTo>
                <a:cubicBezTo>
                  <a:pt x="7295" y="3324"/>
                  <a:pt x="7258" y="3371"/>
                  <a:pt x="7218" y="3349"/>
                </a:cubicBezTo>
                <a:cubicBezTo>
                  <a:pt x="7171" y="3323"/>
                  <a:pt x="7149" y="3285"/>
                  <a:pt x="7119" y="3249"/>
                </a:cubicBezTo>
                <a:cubicBezTo>
                  <a:pt x="7100" y="3226"/>
                  <a:pt x="7049" y="3183"/>
                  <a:pt x="7045" y="3175"/>
                </a:cubicBezTo>
                <a:cubicBezTo>
                  <a:pt x="7042" y="3169"/>
                  <a:pt x="6997" y="3119"/>
                  <a:pt x="7020" y="3101"/>
                </a:cubicBezTo>
                <a:cubicBezTo>
                  <a:pt x="7028" y="3101"/>
                  <a:pt x="7037" y="3101"/>
                  <a:pt x="7045" y="310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97120" y="1224000"/>
            <a:ext cx="1160640" cy="3650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7541" y="3795"/>
                </a:moveTo>
                <a:cubicBezTo>
                  <a:pt x="7541" y="3850"/>
                  <a:pt x="7519" y="3888"/>
                  <a:pt x="7516" y="3944"/>
                </a:cubicBezTo>
                <a:cubicBezTo>
                  <a:pt x="7512" y="4016"/>
                  <a:pt x="7496" y="4073"/>
                  <a:pt x="7491" y="4142"/>
                </a:cubicBezTo>
                <a:cubicBezTo>
                  <a:pt x="7488" y="4187"/>
                  <a:pt x="7491" y="4213"/>
                  <a:pt x="7541" y="4217"/>
                </a:cubicBezTo>
                <a:cubicBezTo>
                  <a:pt x="7609" y="4222"/>
                  <a:pt x="7652" y="4202"/>
                  <a:pt x="7714" y="4192"/>
                </a:cubicBezTo>
                <a:cubicBezTo>
                  <a:pt x="7759" y="4184"/>
                  <a:pt x="7846" y="4185"/>
                  <a:pt x="7888" y="4167"/>
                </a:cubicBezTo>
                <a:cubicBezTo>
                  <a:pt x="7930" y="4150"/>
                  <a:pt x="7936" y="4142"/>
                  <a:pt x="7987" y="4142"/>
                </a:cubicBezTo>
                <a:cubicBezTo>
                  <a:pt x="8012" y="4142"/>
                  <a:pt x="8020" y="4142"/>
                  <a:pt x="7987" y="4142"/>
                </a:cubicBezTo>
              </a:path>
              <a:path w="3226" h="1018">
                <a:moveTo>
                  <a:pt x="7764" y="4018"/>
                </a:moveTo>
                <a:cubicBezTo>
                  <a:pt x="7764" y="4109"/>
                  <a:pt x="7764" y="4200"/>
                  <a:pt x="7764" y="4291"/>
                </a:cubicBezTo>
              </a:path>
              <a:path w="3226" h="1018">
                <a:moveTo>
                  <a:pt x="8186" y="3944"/>
                </a:moveTo>
                <a:cubicBezTo>
                  <a:pt x="8186" y="3919"/>
                  <a:pt x="8186" y="3911"/>
                  <a:pt x="8186" y="3894"/>
                </a:cubicBezTo>
                <a:cubicBezTo>
                  <a:pt x="8241" y="3894"/>
                  <a:pt x="8293" y="3882"/>
                  <a:pt x="8334" y="3919"/>
                </a:cubicBezTo>
                <a:cubicBezTo>
                  <a:pt x="8388" y="3967"/>
                  <a:pt x="8423" y="3976"/>
                  <a:pt x="8458" y="4043"/>
                </a:cubicBezTo>
                <a:cubicBezTo>
                  <a:pt x="8490" y="4104"/>
                  <a:pt x="8497" y="4158"/>
                  <a:pt x="8458" y="4217"/>
                </a:cubicBezTo>
                <a:cubicBezTo>
                  <a:pt x="8432" y="4257"/>
                  <a:pt x="8371" y="4283"/>
                  <a:pt x="8334" y="4291"/>
                </a:cubicBezTo>
                <a:cubicBezTo>
                  <a:pt x="8281" y="4302"/>
                  <a:pt x="8224" y="4299"/>
                  <a:pt x="8186" y="4266"/>
                </a:cubicBezTo>
                <a:cubicBezTo>
                  <a:pt x="8160" y="4243"/>
                  <a:pt x="8140" y="4200"/>
                  <a:pt x="8136" y="4167"/>
                </a:cubicBezTo>
                <a:cubicBezTo>
                  <a:pt x="8130" y="4117"/>
                  <a:pt x="8148" y="4107"/>
                  <a:pt x="8161" y="4068"/>
                </a:cubicBezTo>
                <a:cubicBezTo>
                  <a:pt x="8161" y="4060"/>
                  <a:pt x="8161" y="4051"/>
                  <a:pt x="8161" y="4043"/>
                </a:cubicBezTo>
              </a:path>
              <a:path w="3226" h="1018">
                <a:moveTo>
                  <a:pt x="9128" y="3795"/>
                </a:moveTo>
                <a:cubicBezTo>
                  <a:pt x="9153" y="3795"/>
                  <a:pt x="9161" y="3795"/>
                  <a:pt x="9153" y="3770"/>
                </a:cubicBezTo>
                <a:cubicBezTo>
                  <a:pt x="9141" y="3805"/>
                  <a:pt x="9099" y="3799"/>
                  <a:pt x="9079" y="3845"/>
                </a:cubicBezTo>
                <a:cubicBezTo>
                  <a:pt x="9062" y="3885"/>
                  <a:pt x="9039" y="3909"/>
                  <a:pt x="9004" y="3944"/>
                </a:cubicBezTo>
                <a:cubicBezTo>
                  <a:pt x="8972" y="3976"/>
                  <a:pt x="8963" y="4015"/>
                  <a:pt x="8954" y="4043"/>
                </a:cubicBezTo>
                <a:cubicBezTo>
                  <a:pt x="8967" y="4081"/>
                  <a:pt x="8984" y="4068"/>
                  <a:pt x="9029" y="4068"/>
                </a:cubicBezTo>
                <a:cubicBezTo>
                  <a:pt x="9080" y="4068"/>
                  <a:pt x="9087" y="4057"/>
                  <a:pt x="9128" y="4043"/>
                </a:cubicBezTo>
                <a:cubicBezTo>
                  <a:pt x="9153" y="4043"/>
                  <a:pt x="9161" y="4043"/>
                  <a:pt x="9178" y="4043"/>
                </a:cubicBezTo>
              </a:path>
              <a:path w="3226" h="1018">
                <a:moveTo>
                  <a:pt x="9798" y="3820"/>
                </a:moveTo>
                <a:cubicBezTo>
                  <a:pt x="9773" y="3820"/>
                  <a:pt x="9765" y="3820"/>
                  <a:pt x="9773" y="3795"/>
                </a:cubicBezTo>
                <a:cubicBezTo>
                  <a:pt x="9778" y="3781"/>
                  <a:pt x="9819" y="3729"/>
                  <a:pt x="9847" y="3721"/>
                </a:cubicBezTo>
                <a:cubicBezTo>
                  <a:pt x="9890" y="3709"/>
                  <a:pt x="9930" y="3678"/>
                  <a:pt x="9971" y="3696"/>
                </a:cubicBezTo>
                <a:cubicBezTo>
                  <a:pt x="10004" y="3711"/>
                  <a:pt x="10009" y="3814"/>
                  <a:pt x="9996" y="3845"/>
                </a:cubicBezTo>
                <a:cubicBezTo>
                  <a:pt x="9972" y="3902"/>
                  <a:pt x="9917" y="3955"/>
                  <a:pt x="9897" y="4018"/>
                </a:cubicBezTo>
                <a:cubicBezTo>
                  <a:pt x="9888" y="4047"/>
                  <a:pt x="9897" y="4087"/>
                  <a:pt x="9897" y="4118"/>
                </a:cubicBezTo>
                <a:cubicBezTo>
                  <a:pt x="9957" y="4118"/>
                  <a:pt x="9990" y="4103"/>
                  <a:pt x="10046" y="4093"/>
                </a:cubicBezTo>
                <a:cubicBezTo>
                  <a:pt x="10096" y="4084"/>
                  <a:pt x="10150" y="4095"/>
                  <a:pt x="10195" y="4068"/>
                </a:cubicBezTo>
                <a:cubicBezTo>
                  <a:pt x="10203" y="4060"/>
                  <a:pt x="10212" y="4051"/>
                  <a:pt x="10220" y="4043"/>
                </a:cubicBezTo>
              </a:path>
              <a:path w="3226" h="1018">
                <a:moveTo>
                  <a:pt x="10443" y="3770"/>
                </a:moveTo>
                <a:cubicBezTo>
                  <a:pt x="10421" y="3763"/>
                  <a:pt x="10398" y="3732"/>
                  <a:pt x="10418" y="3696"/>
                </a:cubicBezTo>
                <a:cubicBezTo>
                  <a:pt x="10432" y="3672"/>
                  <a:pt x="10518" y="3648"/>
                  <a:pt x="10542" y="3646"/>
                </a:cubicBezTo>
                <a:cubicBezTo>
                  <a:pt x="10588" y="3643"/>
                  <a:pt x="10645" y="3674"/>
                  <a:pt x="10666" y="3721"/>
                </a:cubicBezTo>
                <a:cubicBezTo>
                  <a:pt x="10688" y="3770"/>
                  <a:pt x="10711" y="3810"/>
                  <a:pt x="10716" y="3870"/>
                </a:cubicBezTo>
                <a:cubicBezTo>
                  <a:pt x="10721" y="3929"/>
                  <a:pt x="10727" y="3998"/>
                  <a:pt x="10691" y="4043"/>
                </a:cubicBezTo>
                <a:cubicBezTo>
                  <a:pt x="10659" y="4083"/>
                  <a:pt x="10641" y="4093"/>
                  <a:pt x="10592" y="4093"/>
                </a:cubicBezTo>
                <a:cubicBezTo>
                  <a:pt x="10543" y="4093"/>
                  <a:pt x="10492" y="4099"/>
                  <a:pt x="10468" y="4043"/>
                </a:cubicBezTo>
                <a:cubicBezTo>
                  <a:pt x="10452" y="4006"/>
                  <a:pt x="10410" y="3981"/>
                  <a:pt x="10393" y="3944"/>
                </a:cubicBezTo>
                <a:cubicBezTo>
                  <a:pt x="10378" y="3910"/>
                  <a:pt x="10368" y="3886"/>
                  <a:pt x="10368" y="3845"/>
                </a:cubicBezTo>
                <a:cubicBezTo>
                  <a:pt x="10368" y="3783"/>
                  <a:pt x="10378" y="3750"/>
                  <a:pt x="10393" y="3721"/>
                </a:cubicBezTo>
                <a:cubicBezTo>
                  <a:pt x="10405" y="3696"/>
                  <a:pt x="10435" y="3686"/>
                  <a:pt x="10443" y="3671"/>
                </a:cubicBezTo>
                <a:cubicBezTo>
                  <a:pt x="10443" y="3646"/>
                  <a:pt x="10443" y="3638"/>
                  <a:pt x="10468" y="3646"/>
                </a:cubicBezTo>
              </a:path>
              <a:path w="3226" h="1018">
                <a:moveTo>
                  <a:pt x="10368" y="3547"/>
                </a:moveTo>
                <a:cubicBezTo>
                  <a:pt x="10423" y="3421"/>
                  <a:pt x="10402" y="3479"/>
                  <a:pt x="10418" y="3398"/>
                </a:cubicBezTo>
                <a:cubicBezTo>
                  <a:pt x="10299" y="3425"/>
                  <a:pt x="10178" y="3504"/>
                  <a:pt x="10071" y="3572"/>
                </a:cubicBezTo>
                <a:cubicBezTo>
                  <a:pt x="9864" y="3703"/>
                  <a:pt x="9640" y="3799"/>
                  <a:pt x="9426" y="3919"/>
                </a:cubicBezTo>
                <a:cubicBezTo>
                  <a:pt x="9279" y="4002"/>
                  <a:pt x="9143" y="4097"/>
                  <a:pt x="9004" y="4192"/>
                </a:cubicBezTo>
                <a:cubicBezTo>
                  <a:pt x="8924" y="4247"/>
                  <a:pt x="8861" y="4315"/>
                  <a:pt x="8781" y="4366"/>
                </a:cubicBezTo>
              </a:path>
              <a:path w="3226" h="1018">
                <a:moveTo>
                  <a:pt x="10443" y="4415"/>
                </a:moveTo>
                <a:cubicBezTo>
                  <a:pt x="10280" y="4322"/>
                  <a:pt x="10125" y="4261"/>
                  <a:pt x="9947" y="4192"/>
                </a:cubicBezTo>
                <a:cubicBezTo>
                  <a:pt x="9605" y="4060"/>
                  <a:pt x="9258" y="3945"/>
                  <a:pt x="8905" y="3845"/>
                </a:cubicBezTo>
                <a:cubicBezTo>
                  <a:pt x="8731" y="3796"/>
                  <a:pt x="8648" y="3768"/>
                  <a:pt x="8508" y="36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880" y="1081080"/>
            <a:ext cx="260280" cy="401760"/>
          </a:xfrm>
          <a:custGeom>
            <a:avLst/>
            <a:gdLst/>
            <a:ahLst/>
            <a:rect l="l" t="t" r="r" b="b"/>
            <a:pathLst>
              <a:path w="720" h="1118">
                <a:moveTo>
                  <a:pt x="2034" y="3894"/>
                </a:moveTo>
                <a:cubicBezTo>
                  <a:pt x="2064" y="3932"/>
                  <a:pt x="2083" y="3971"/>
                  <a:pt x="2108" y="4018"/>
                </a:cubicBezTo>
                <a:cubicBezTo>
                  <a:pt x="2127" y="4055"/>
                  <a:pt x="2201" y="4148"/>
                  <a:pt x="2257" y="4118"/>
                </a:cubicBezTo>
                <a:cubicBezTo>
                  <a:pt x="2401" y="4041"/>
                  <a:pt x="2426" y="3801"/>
                  <a:pt x="2480" y="3671"/>
                </a:cubicBezTo>
                <a:cubicBezTo>
                  <a:pt x="2573" y="3446"/>
                  <a:pt x="2655" y="3224"/>
                  <a:pt x="2753" y="300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43720" y="1044720"/>
            <a:ext cx="571320" cy="5000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15677" y="4068"/>
                </a:moveTo>
                <a:cubicBezTo>
                  <a:pt x="15685" y="3974"/>
                  <a:pt x="15700" y="3989"/>
                  <a:pt x="15726" y="3944"/>
                </a:cubicBezTo>
                <a:cubicBezTo>
                  <a:pt x="15726" y="4028"/>
                  <a:pt x="15713" y="4114"/>
                  <a:pt x="15751" y="4192"/>
                </a:cubicBezTo>
                <a:cubicBezTo>
                  <a:pt x="15799" y="4263"/>
                  <a:pt x="15812" y="4286"/>
                  <a:pt x="15875" y="4291"/>
                </a:cubicBezTo>
                <a:cubicBezTo>
                  <a:pt x="16103" y="4113"/>
                  <a:pt x="16270" y="3880"/>
                  <a:pt x="16470" y="3671"/>
                </a:cubicBezTo>
                <a:cubicBezTo>
                  <a:pt x="16725" y="3404"/>
                  <a:pt x="16993" y="3153"/>
                  <a:pt x="17264" y="290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10360" y="857160"/>
            <a:ext cx="633600" cy="669960"/>
          </a:xfrm>
          <a:custGeom>
            <a:avLst/>
            <a:gdLst/>
            <a:ahLst/>
            <a:rect l="l" t="t" r="r" b="b"/>
            <a:pathLst>
              <a:path w="1762" h="1862">
                <a:moveTo>
                  <a:pt x="22250" y="3894"/>
                </a:moveTo>
                <a:cubicBezTo>
                  <a:pt x="22258" y="3878"/>
                  <a:pt x="22267" y="3861"/>
                  <a:pt x="22275" y="3845"/>
                </a:cubicBezTo>
                <a:cubicBezTo>
                  <a:pt x="22283" y="3876"/>
                  <a:pt x="22279" y="3929"/>
                  <a:pt x="22275" y="3994"/>
                </a:cubicBezTo>
                <a:cubicBezTo>
                  <a:pt x="22269" y="4077"/>
                  <a:pt x="22280" y="4138"/>
                  <a:pt x="22299" y="4217"/>
                </a:cubicBezTo>
                <a:cubicBezTo>
                  <a:pt x="22423" y="4228"/>
                  <a:pt x="22425" y="4203"/>
                  <a:pt x="22547" y="4068"/>
                </a:cubicBezTo>
                <a:cubicBezTo>
                  <a:pt x="22823" y="3763"/>
                  <a:pt x="23071" y="3435"/>
                  <a:pt x="23341" y="3125"/>
                </a:cubicBezTo>
                <a:cubicBezTo>
                  <a:pt x="23561" y="2872"/>
                  <a:pt x="23774" y="2618"/>
                  <a:pt x="24011" y="238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4080" y="2419200"/>
            <a:ext cx="1249200" cy="295560"/>
          </a:xfrm>
          <a:custGeom>
            <a:avLst/>
            <a:gdLst/>
            <a:ahLst/>
            <a:rect l="l" t="t" r="r" b="b"/>
            <a:pathLst>
              <a:path w="3474" h="820">
                <a:moveTo>
                  <a:pt x="7466" y="6896"/>
                </a:moveTo>
                <a:cubicBezTo>
                  <a:pt x="7478" y="6861"/>
                  <a:pt x="7473" y="6871"/>
                  <a:pt x="7516" y="6871"/>
                </a:cubicBezTo>
                <a:cubicBezTo>
                  <a:pt x="7472" y="6838"/>
                  <a:pt x="7450" y="6846"/>
                  <a:pt x="7392" y="6846"/>
                </a:cubicBezTo>
                <a:cubicBezTo>
                  <a:pt x="7159" y="6846"/>
                  <a:pt x="6922" y="6851"/>
                  <a:pt x="6697" y="6821"/>
                </a:cubicBezTo>
                <a:cubicBezTo>
                  <a:pt x="6612" y="6810"/>
                  <a:pt x="6550" y="6833"/>
                  <a:pt x="6474" y="6846"/>
                </a:cubicBezTo>
                <a:cubicBezTo>
                  <a:pt x="6409" y="6857"/>
                  <a:pt x="6341" y="6866"/>
                  <a:pt x="6276" y="6871"/>
                </a:cubicBezTo>
                <a:cubicBezTo>
                  <a:pt x="6243" y="6874"/>
                  <a:pt x="6209" y="6871"/>
                  <a:pt x="6176" y="6871"/>
                </a:cubicBezTo>
              </a:path>
              <a:path w="3474" h="820">
                <a:moveTo>
                  <a:pt x="7169" y="7069"/>
                </a:moveTo>
                <a:cubicBezTo>
                  <a:pt x="7169" y="7061"/>
                  <a:pt x="7169" y="7053"/>
                  <a:pt x="7169" y="7045"/>
                </a:cubicBezTo>
                <a:cubicBezTo>
                  <a:pt x="7122" y="7106"/>
                  <a:pt x="7158" y="7163"/>
                  <a:pt x="7144" y="7243"/>
                </a:cubicBezTo>
                <a:cubicBezTo>
                  <a:pt x="7128" y="7337"/>
                  <a:pt x="7119" y="7418"/>
                  <a:pt x="7119" y="7516"/>
                </a:cubicBezTo>
                <a:cubicBezTo>
                  <a:pt x="7119" y="7524"/>
                  <a:pt x="7119" y="7533"/>
                  <a:pt x="7119" y="7541"/>
                </a:cubicBezTo>
              </a:path>
              <a:path w="3474" h="820">
                <a:moveTo>
                  <a:pt x="7069" y="7020"/>
                </a:moveTo>
                <a:cubicBezTo>
                  <a:pt x="7094" y="6986"/>
                  <a:pt x="7101" y="6959"/>
                  <a:pt x="7144" y="6945"/>
                </a:cubicBezTo>
                <a:cubicBezTo>
                  <a:pt x="7176" y="6934"/>
                  <a:pt x="7224" y="6943"/>
                  <a:pt x="7243" y="6970"/>
                </a:cubicBezTo>
                <a:cubicBezTo>
                  <a:pt x="7290" y="7038"/>
                  <a:pt x="7259" y="7075"/>
                  <a:pt x="7243" y="7144"/>
                </a:cubicBezTo>
                <a:cubicBezTo>
                  <a:pt x="7233" y="7187"/>
                  <a:pt x="7165" y="7169"/>
                  <a:pt x="7119" y="7169"/>
                </a:cubicBezTo>
                <a:cubicBezTo>
                  <a:pt x="7102" y="7169"/>
                  <a:pt x="7086" y="7169"/>
                  <a:pt x="7069" y="7169"/>
                </a:cubicBezTo>
              </a:path>
              <a:path w="3474" h="820">
                <a:moveTo>
                  <a:pt x="7417" y="7169"/>
                </a:moveTo>
                <a:cubicBezTo>
                  <a:pt x="7417" y="7144"/>
                  <a:pt x="7417" y="7136"/>
                  <a:pt x="7417" y="7119"/>
                </a:cubicBezTo>
                <a:cubicBezTo>
                  <a:pt x="7463" y="7119"/>
                  <a:pt x="7481" y="7113"/>
                  <a:pt x="7516" y="7144"/>
                </a:cubicBezTo>
                <a:cubicBezTo>
                  <a:pt x="7549" y="7174"/>
                  <a:pt x="7562" y="7239"/>
                  <a:pt x="7516" y="7268"/>
                </a:cubicBezTo>
                <a:cubicBezTo>
                  <a:pt x="7486" y="7287"/>
                  <a:pt x="7414" y="7235"/>
                  <a:pt x="7392" y="7218"/>
                </a:cubicBezTo>
              </a:path>
              <a:path w="3474" h="820">
                <a:moveTo>
                  <a:pt x="7789" y="6995"/>
                </a:moveTo>
                <a:cubicBezTo>
                  <a:pt x="7832" y="6973"/>
                  <a:pt x="7844" y="6969"/>
                  <a:pt x="7863" y="6945"/>
                </a:cubicBezTo>
                <a:cubicBezTo>
                  <a:pt x="7827" y="6945"/>
                  <a:pt x="7777" y="6950"/>
                  <a:pt x="7764" y="6995"/>
                </a:cubicBezTo>
                <a:cubicBezTo>
                  <a:pt x="7753" y="7036"/>
                  <a:pt x="7767" y="7127"/>
                  <a:pt x="7813" y="7144"/>
                </a:cubicBezTo>
                <a:cubicBezTo>
                  <a:pt x="7863" y="7162"/>
                  <a:pt x="7905" y="7149"/>
                  <a:pt x="7913" y="7218"/>
                </a:cubicBezTo>
                <a:cubicBezTo>
                  <a:pt x="7913" y="7243"/>
                  <a:pt x="7913" y="7251"/>
                  <a:pt x="7913" y="7268"/>
                </a:cubicBezTo>
                <a:cubicBezTo>
                  <a:pt x="7863" y="7268"/>
                  <a:pt x="7814" y="7268"/>
                  <a:pt x="7764" y="7268"/>
                </a:cubicBezTo>
              </a:path>
              <a:path w="3474" h="820">
                <a:moveTo>
                  <a:pt x="8210" y="7045"/>
                </a:moveTo>
                <a:cubicBezTo>
                  <a:pt x="8235" y="7020"/>
                  <a:pt x="8243" y="7012"/>
                  <a:pt x="8260" y="6995"/>
                </a:cubicBezTo>
                <a:cubicBezTo>
                  <a:pt x="8219" y="6964"/>
                  <a:pt x="8183" y="6967"/>
                  <a:pt x="8136" y="6995"/>
                </a:cubicBezTo>
                <a:cubicBezTo>
                  <a:pt x="8090" y="7022"/>
                  <a:pt x="8086" y="7072"/>
                  <a:pt x="8086" y="7119"/>
                </a:cubicBezTo>
                <a:cubicBezTo>
                  <a:pt x="8086" y="7150"/>
                  <a:pt x="8128" y="7165"/>
                  <a:pt x="8161" y="7169"/>
                </a:cubicBezTo>
                <a:cubicBezTo>
                  <a:pt x="8217" y="7175"/>
                  <a:pt x="8200" y="7172"/>
                  <a:pt x="8235" y="7218"/>
                </a:cubicBezTo>
                <a:cubicBezTo>
                  <a:pt x="8199" y="7227"/>
                  <a:pt x="8169" y="7261"/>
                  <a:pt x="8136" y="7268"/>
                </a:cubicBezTo>
                <a:cubicBezTo>
                  <a:pt x="8109" y="7274"/>
                  <a:pt x="8066" y="7268"/>
                  <a:pt x="8037" y="7268"/>
                </a:cubicBezTo>
              </a:path>
              <a:path w="3474" h="820">
                <a:moveTo>
                  <a:pt x="8434" y="7119"/>
                </a:moveTo>
                <a:cubicBezTo>
                  <a:pt x="8475" y="7119"/>
                  <a:pt x="8483" y="7119"/>
                  <a:pt x="8508" y="7119"/>
                </a:cubicBezTo>
                <a:cubicBezTo>
                  <a:pt x="8508" y="7171"/>
                  <a:pt x="8496" y="7201"/>
                  <a:pt x="8483" y="7243"/>
                </a:cubicBezTo>
                <a:cubicBezTo>
                  <a:pt x="8483" y="7268"/>
                  <a:pt x="8483" y="7276"/>
                  <a:pt x="8483" y="7293"/>
                </a:cubicBezTo>
              </a:path>
              <a:path w="3474" h="820">
                <a:moveTo>
                  <a:pt x="8434" y="6945"/>
                </a:moveTo>
                <a:cubicBezTo>
                  <a:pt x="8434" y="6907"/>
                  <a:pt x="8451" y="6921"/>
                  <a:pt x="8483" y="6921"/>
                </a:cubicBezTo>
              </a:path>
              <a:path w="3474" h="820">
                <a:moveTo>
                  <a:pt x="8632" y="6796"/>
                </a:moveTo>
                <a:cubicBezTo>
                  <a:pt x="8632" y="6731"/>
                  <a:pt x="8632" y="6882"/>
                  <a:pt x="8632" y="6896"/>
                </a:cubicBezTo>
                <a:cubicBezTo>
                  <a:pt x="8632" y="7012"/>
                  <a:pt x="8632" y="7127"/>
                  <a:pt x="8632" y="7243"/>
                </a:cubicBezTo>
                <a:cubicBezTo>
                  <a:pt x="8668" y="7207"/>
                  <a:pt x="8706" y="7150"/>
                  <a:pt x="8756" y="7144"/>
                </a:cubicBezTo>
                <a:cubicBezTo>
                  <a:pt x="8809" y="7138"/>
                  <a:pt x="8806" y="7180"/>
                  <a:pt x="8806" y="7218"/>
                </a:cubicBezTo>
                <a:cubicBezTo>
                  <a:pt x="8806" y="7243"/>
                  <a:pt x="8806" y="7251"/>
                  <a:pt x="8806" y="7268"/>
                </a:cubicBezTo>
                <a:cubicBezTo>
                  <a:pt x="8749" y="7268"/>
                  <a:pt x="8728" y="7258"/>
                  <a:pt x="8682" y="7243"/>
                </a:cubicBezTo>
                <a:cubicBezTo>
                  <a:pt x="8657" y="7243"/>
                  <a:pt x="8649" y="7243"/>
                  <a:pt x="8657" y="7218"/>
                </a:cubicBezTo>
              </a:path>
              <a:path w="3474" h="820">
                <a:moveTo>
                  <a:pt x="8905" y="6772"/>
                </a:moveTo>
                <a:cubicBezTo>
                  <a:pt x="8925" y="6732"/>
                  <a:pt x="8923" y="6715"/>
                  <a:pt x="8954" y="6722"/>
                </a:cubicBezTo>
                <a:cubicBezTo>
                  <a:pt x="8954" y="6796"/>
                  <a:pt x="8971" y="6850"/>
                  <a:pt x="8979" y="6921"/>
                </a:cubicBezTo>
                <a:cubicBezTo>
                  <a:pt x="8995" y="7057"/>
                  <a:pt x="8979" y="7204"/>
                  <a:pt x="8979" y="7342"/>
                </a:cubicBezTo>
              </a:path>
              <a:path w="3474" h="820">
                <a:moveTo>
                  <a:pt x="9128" y="7119"/>
                </a:moveTo>
                <a:cubicBezTo>
                  <a:pt x="9138" y="7148"/>
                  <a:pt x="9162" y="7164"/>
                  <a:pt x="9203" y="7169"/>
                </a:cubicBezTo>
                <a:cubicBezTo>
                  <a:pt x="9243" y="7174"/>
                  <a:pt x="9276" y="7120"/>
                  <a:pt x="9302" y="7094"/>
                </a:cubicBezTo>
                <a:cubicBezTo>
                  <a:pt x="9349" y="7047"/>
                  <a:pt x="9351" y="7009"/>
                  <a:pt x="9351" y="6945"/>
                </a:cubicBezTo>
                <a:cubicBezTo>
                  <a:pt x="9267" y="6912"/>
                  <a:pt x="9261" y="6968"/>
                  <a:pt x="9227" y="7045"/>
                </a:cubicBezTo>
                <a:cubicBezTo>
                  <a:pt x="9190" y="7127"/>
                  <a:pt x="9195" y="7217"/>
                  <a:pt x="9252" y="7293"/>
                </a:cubicBezTo>
                <a:cubicBezTo>
                  <a:pt x="9311" y="7372"/>
                  <a:pt x="9374" y="7343"/>
                  <a:pt x="9451" y="7317"/>
                </a:cubicBezTo>
                <a:cubicBezTo>
                  <a:pt x="9531" y="7289"/>
                  <a:pt x="9577" y="7264"/>
                  <a:pt x="9649" y="7218"/>
                </a:cubicBezTo>
              </a:path>
              <a:path w="3474" h="820">
                <a:moveTo>
                  <a:pt x="8210" y="7268"/>
                </a:moveTo>
                <a:cubicBezTo>
                  <a:pt x="8248" y="7230"/>
                  <a:pt x="8305" y="7190"/>
                  <a:pt x="8334" y="7144"/>
                </a:cubicBezTo>
                <a:cubicBezTo>
                  <a:pt x="8359" y="7094"/>
                  <a:pt x="8367" y="7077"/>
                  <a:pt x="8409" y="70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7960" y="2170080"/>
            <a:ext cx="1608120" cy="276120"/>
          </a:xfrm>
          <a:custGeom>
            <a:avLst/>
            <a:gdLst/>
            <a:ahLst/>
            <a:rect l="l" t="t" r="r" b="b"/>
            <a:pathLst>
              <a:path w="4466" h="769">
                <a:moveTo>
                  <a:pt x="11162" y="6499"/>
                </a:moveTo>
                <a:cubicBezTo>
                  <a:pt x="11186" y="6513"/>
                  <a:pt x="11184" y="6521"/>
                  <a:pt x="11237" y="6524"/>
                </a:cubicBezTo>
                <a:cubicBezTo>
                  <a:pt x="11388" y="6533"/>
                  <a:pt x="11540" y="6518"/>
                  <a:pt x="11683" y="6499"/>
                </a:cubicBezTo>
                <a:cubicBezTo>
                  <a:pt x="11858" y="6476"/>
                  <a:pt x="12062" y="6496"/>
                  <a:pt x="12229" y="6524"/>
                </a:cubicBezTo>
                <a:cubicBezTo>
                  <a:pt x="12438" y="6559"/>
                  <a:pt x="12696" y="6524"/>
                  <a:pt x="12898" y="6499"/>
                </a:cubicBezTo>
                <a:cubicBezTo>
                  <a:pt x="13002" y="6486"/>
                  <a:pt x="13116" y="6499"/>
                  <a:pt x="13221" y="6499"/>
                </a:cubicBezTo>
                <a:cubicBezTo>
                  <a:pt x="13192" y="6513"/>
                  <a:pt x="13117" y="6528"/>
                  <a:pt x="13097" y="6548"/>
                </a:cubicBezTo>
                <a:cubicBezTo>
                  <a:pt x="13076" y="6569"/>
                  <a:pt x="13057" y="6621"/>
                  <a:pt x="13022" y="6648"/>
                </a:cubicBezTo>
                <a:cubicBezTo>
                  <a:pt x="12978" y="6682"/>
                  <a:pt x="12940" y="6708"/>
                  <a:pt x="12898" y="6747"/>
                </a:cubicBezTo>
                <a:cubicBezTo>
                  <a:pt x="12881" y="6763"/>
                  <a:pt x="12857" y="6778"/>
                  <a:pt x="12824" y="6796"/>
                </a:cubicBezTo>
                <a:cubicBezTo>
                  <a:pt x="12772" y="6825"/>
                  <a:pt x="12848" y="6773"/>
                  <a:pt x="12849" y="6772"/>
                </a:cubicBezTo>
                <a:cubicBezTo>
                  <a:pt x="12865" y="6756"/>
                  <a:pt x="12889" y="6721"/>
                  <a:pt x="12923" y="6697"/>
                </a:cubicBezTo>
                <a:cubicBezTo>
                  <a:pt x="12953" y="6676"/>
                  <a:pt x="12963" y="6657"/>
                  <a:pt x="12998" y="6648"/>
                </a:cubicBezTo>
                <a:cubicBezTo>
                  <a:pt x="13024" y="6641"/>
                  <a:pt x="13079" y="6626"/>
                  <a:pt x="13097" y="6623"/>
                </a:cubicBezTo>
                <a:cubicBezTo>
                  <a:pt x="13134" y="6617"/>
                  <a:pt x="13166" y="6617"/>
                  <a:pt x="13196" y="6598"/>
                </a:cubicBezTo>
                <a:cubicBezTo>
                  <a:pt x="13231" y="6576"/>
                  <a:pt x="13307" y="6569"/>
                  <a:pt x="13271" y="6548"/>
                </a:cubicBezTo>
                <a:cubicBezTo>
                  <a:pt x="13245" y="6532"/>
                  <a:pt x="13202" y="6542"/>
                  <a:pt x="13171" y="6524"/>
                </a:cubicBezTo>
                <a:cubicBezTo>
                  <a:pt x="13115" y="6492"/>
                  <a:pt x="13069" y="6445"/>
                  <a:pt x="13022" y="6400"/>
                </a:cubicBezTo>
                <a:cubicBezTo>
                  <a:pt x="12980" y="6360"/>
                  <a:pt x="12952" y="6313"/>
                  <a:pt x="12923" y="6276"/>
                </a:cubicBezTo>
                <a:cubicBezTo>
                  <a:pt x="12914" y="6264"/>
                  <a:pt x="12886" y="6239"/>
                  <a:pt x="12874" y="6226"/>
                </a:cubicBezTo>
              </a:path>
              <a:path w="4466" h="769">
                <a:moveTo>
                  <a:pt x="13990" y="6276"/>
                </a:moveTo>
                <a:cubicBezTo>
                  <a:pt x="13990" y="6243"/>
                  <a:pt x="13990" y="6209"/>
                  <a:pt x="13990" y="6176"/>
                </a:cubicBezTo>
                <a:cubicBezTo>
                  <a:pt x="13965" y="6193"/>
                  <a:pt x="13946" y="6299"/>
                  <a:pt x="13940" y="6350"/>
                </a:cubicBezTo>
                <a:cubicBezTo>
                  <a:pt x="13929" y="6447"/>
                  <a:pt x="13940" y="6550"/>
                  <a:pt x="13940" y="6648"/>
                </a:cubicBezTo>
              </a:path>
              <a:path w="4466" h="769">
                <a:moveTo>
                  <a:pt x="13915" y="6176"/>
                </a:moveTo>
                <a:cubicBezTo>
                  <a:pt x="13921" y="6137"/>
                  <a:pt x="13938" y="6067"/>
                  <a:pt x="13990" y="6052"/>
                </a:cubicBezTo>
                <a:cubicBezTo>
                  <a:pt x="14043" y="6037"/>
                  <a:pt x="14140" y="6004"/>
                  <a:pt x="14188" y="6052"/>
                </a:cubicBezTo>
                <a:cubicBezTo>
                  <a:pt x="14212" y="6076"/>
                  <a:pt x="14276" y="6218"/>
                  <a:pt x="14263" y="6251"/>
                </a:cubicBezTo>
                <a:cubicBezTo>
                  <a:pt x="14234" y="6323"/>
                  <a:pt x="14164" y="6298"/>
                  <a:pt x="14114" y="6276"/>
                </a:cubicBezTo>
                <a:cubicBezTo>
                  <a:pt x="14066" y="6252"/>
                  <a:pt x="14052" y="6244"/>
                  <a:pt x="14015" y="6251"/>
                </a:cubicBezTo>
              </a:path>
              <a:path w="4466" h="769">
                <a:moveTo>
                  <a:pt x="14883" y="6424"/>
                </a:moveTo>
                <a:cubicBezTo>
                  <a:pt x="14946" y="6424"/>
                  <a:pt x="14828" y="6424"/>
                  <a:pt x="14808" y="6424"/>
                </a:cubicBezTo>
                <a:cubicBezTo>
                  <a:pt x="14719" y="6424"/>
                  <a:pt x="14637" y="6423"/>
                  <a:pt x="14560" y="6400"/>
                </a:cubicBezTo>
                <a:cubicBezTo>
                  <a:pt x="14536" y="6400"/>
                  <a:pt x="14527" y="6400"/>
                  <a:pt x="14511" y="6400"/>
                </a:cubicBezTo>
              </a:path>
              <a:path w="4466" h="769">
                <a:moveTo>
                  <a:pt x="14635" y="6276"/>
                </a:moveTo>
                <a:cubicBezTo>
                  <a:pt x="14643" y="6268"/>
                  <a:pt x="14652" y="6259"/>
                  <a:pt x="14660" y="6251"/>
                </a:cubicBezTo>
                <a:cubicBezTo>
                  <a:pt x="14660" y="6301"/>
                  <a:pt x="14672" y="6353"/>
                  <a:pt x="14684" y="6400"/>
                </a:cubicBezTo>
                <a:cubicBezTo>
                  <a:pt x="14699" y="6458"/>
                  <a:pt x="14706" y="6503"/>
                  <a:pt x="14734" y="6548"/>
                </a:cubicBezTo>
              </a:path>
              <a:path w="4466" h="769">
                <a:moveTo>
                  <a:pt x="15205" y="6201"/>
                </a:moveTo>
                <a:cubicBezTo>
                  <a:pt x="15205" y="6256"/>
                  <a:pt x="15228" y="6294"/>
                  <a:pt x="15230" y="6350"/>
                </a:cubicBezTo>
                <a:cubicBezTo>
                  <a:pt x="15234" y="6432"/>
                  <a:pt x="15245" y="6495"/>
                  <a:pt x="15255" y="6573"/>
                </a:cubicBezTo>
              </a:path>
              <a:path w="4466" h="769">
                <a:moveTo>
                  <a:pt x="15429" y="6077"/>
                </a:moveTo>
                <a:cubicBezTo>
                  <a:pt x="15489" y="6077"/>
                  <a:pt x="15476" y="6087"/>
                  <a:pt x="15503" y="6127"/>
                </a:cubicBezTo>
                <a:cubicBezTo>
                  <a:pt x="15533" y="6173"/>
                  <a:pt x="15545" y="6266"/>
                  <a:pt x="15553" y="6325"/>
                </a:cubicBezTo>
                <a:cubicBezTo>
                  <a:pt x="15565" y="6410"/>
                  <a:pt x="15567" y="6495"/>
                  <a:pt x="15602" y="6573"/>
                </a:cubicBezTo>
                <a:cubicBezTo>
                  <a:pt x="15622" y="6614"/>
                  <a:pt x="15631" y="6620"/>
                  <a:pt x="15627" y="6648"/>
                </a:cubicBezTo>
              </a:path>
              <a:path w="4466" h="769">
                <a:moveTo>
                  <a:pt x="15577" y="6424"/>
                </a:moveTo>
                <a:cubicBezTo>
                  <a:pt x="15508" y="6355"/>
                  <a:pt x="15500" y="6350"/>
                  <a:pt x="15404" y="6350"/>
                </a:cubicBezTo>
                <a:cubicBezTo>
                  <a:pt x="15346" y="6350"/>
                  <a:pt x="15321" y="6350"/>
                  <a:pt x="15280" y="63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29200" y="2214720"/>
            <a:ext cx="874800" cy="160200"/>
          </a:xfrm>
          <a:custGeom>
            <a:avLst/>
            <a:gdLst/>
            <a:ahLst/>
            <a:rect l="l" t="t" r="r" b="b"/>
            <a:pathLst>
              <a:path w="2432" h="447">
                <a:moveTo>
                  <a:pt x="16892" y="6226"/>
                </a:moveTo>
                <a:cubicBezTo>
                  <a:pt x="16892" y="6201"/>
                  <a:pt x="16892" y="6193"/>
                  <a:pt x="16917" y="6201"/>
                </a:cubicBezTo>
                <a:cubicBezTo>
                  <a:pt x="16871" y="6201"/>
                  <a:pt x="16858" y="6221"/>
                  <a:pt x="16818" y="6226"/>
                </a:cubicBezTo>
                <a:cubicBezTo>
                  <a:pt x="16788" y="6229"/>
                  <a:pt x="16697" y="6239"/>
                  <a:pt x="16669" y="6251"/>
                </a:cubicBezTo>
                <a:cubicBezTo>
                  <a:pt x="16630" y="6268"/>
                  <a:pt x="16586" y="6288"/>
                  <a:pt x="16545" y="6300"/>
                </a:cubicBezTo>
                <a:cubicBezTo>
                  <a:pt x="16542" y="6301"/>
                  <a:pt x="16472" y="6322"/>
                  <a:pt x="16470" y="6325"/>
                </a:cubicBezTo>
                <a:cubicBezTo>
                  <a:pt x="16470" y="6333"/>
                  <a:pt x="16470" y="6342"/>
                  <a:pt x="16470" y="6350"/>
                </a:cubicBezTo>
                <a:cubicBezTo>
                  <a:pt x="16531" y="6350"/>
                  <a:pt x="16570" y="6365"/>
                  <a:pt x="16619" y="6375"/>
                </a:cubicBezTo>
                <a:cubicBezTo>
                  <a:pt x="16677" y="6387"/>
                  <a:pt x="16762" y="6403"/>
                  <a:pt x="16818" y="6424"/>
                </a:cubicBezTo>
                <a:cubicBezTo>
                  <a:pt x="16876" y="6446"/>
                  <a:pt x="16894" y="6474"/>
                  <a:pt x="16966" y="6474"/>
                </a:cubicBezTo>
                <a:cubicBezTo>
                  <a:pt x="16974" y="6474"/>
                  <a:pt x="16983" y="6474"/>
                  <a:pt x="16991" y="6474"/>
                </a:cubicBezTo>
              </a:path>
              <a:path w="2432" h="447">
                <a:moveTo>
                  <a:pt x="16818" y="6573"/>
                </a:moveTo>
                <a:cubicBezTo>
                  <a:pt x="16782" y="6538"/>
                  <a:pt x="16746" y="6508"/>
                  <a:pt x="16694" y="6499"/>
                </a:cubicBezTo>
                <a:cubicBezTo>
                  <a:pt x="16627" y="6487"/>
                  <a:pt x="16578" y="6440"/>
                  <a:pt x="16520" y="6424"/>
                </a:cubicBezTo>
                <a:cubicBezTo>
                  <a:pt x="16503" y="6424"/>
                  <a:pt x="16487" y="6424"/>
                  <a:pt x="16470" y="6424"/>
                </a:cubicBezTo>
              </a:path>
              <a:path w="2432" h="447">
                <a:moveTo>
                  <a:pt x="17413" y="6201"/>
                </a:moveTo>
                <a:cubicBezTo>
                  <a:pt x="17413" y="6173"/>
                  <a:pt x="17411" y="6162"/>
                  <a:pt x="17388" y="6152"/>
                </a:cubicBezTo>
                <a:cubicBezTo>
                  <a:pt x="17388" y="6199"/>
                  <a:pt x="17366" y="6231"/>
                  <a:pt x="17363" y="6276"/>
                </a:cubicBezTo>
                <a:cubicBezTo>
                  <a:pt x="17360" y="6327"/>
                  <a:pt x="17360" y="6395"/>
                  <a:pt x="17413" y="6424"/>
                </a:cubicBezTo>
                <a:cubicBezTo>
                  <a:pt x="17466" y="6453"/>
                  <a:pt x="17630" y="6438"/>
                  <a:pt x="17686" y="6449"/>
                </a:cubicBezTo>
                <a:cubicBezTo>
                  <a:pt x="17730" y="6458"/>
                  <a:pt x="17855" y="6474"/>
                  <a:pt x="17810" y="6474"/>
                </a:cubicBezTo>
                <a:cubicBezTo>
                  <a:pt x="17802" y="6474"/>
                  <a:pt x="17793" y="6474"/>
                  <a:pt x="17785" y="6474"/>
                </a:cubicBezTo>
              </a:path>
              <a:path w="2432" h="447">
                <a:moveTo>
                  <a:pt x="17661" y="6375"/>
                </a:moveTo>
                <a:cubicBezTo>
                  <a:pt x="17641" y="6334"/>
                  <a:pt x="17643" y="6318"/>
                  <a:pt x="17611" y="6325"/>
                </a:cubicBezTo>
                <a:cubicBezTo>
                  <a:pt x="17570" y="6339"/>
                  <a:pt x="17565" y="6396"/>
                  <a:pt x="17562" y="6449"/>
                </a:cubicBezTo>
                <a:cubicBezTo>
                  <a:pt x="17559" y="6511"/>
                  <a:pt x="17559" y="6547"/>
                  <a:pt x="17611" y="6573"/>
                </a:cubicBezTo>
              </a:path>
              <a:path w="2432" h="447">
                <a:moveTo>
                  <a:pt x="17959" y="6325"/>
                </a:moveTo>
                <a:cubicBezTo>
                  <a:pt x="17959" y="6280"/>
                  <a:pt x="17953" y="6261"/>
                  <a:pt x="17983" y="6226"/>
                </a:cubicBezTo>
                <a:cubicBezTo>
                  <a:pt x="18025" y="6178"/>
                  <a:pt x="18044" y="6176"/>
                  <a:pt x="18107" y="6176"/>
                </a:cubicBezTo>
                <a:cubicBezTo>
                  <a:pt x="18184" y="6176"/>
                  <a:pt x="18248" y="6205"/>
                  <a:pt x="18281" y="6276"/>
                </a:cubicBezTo>
                <a:cubicBezTo>
                  <a:pt x="18315" y="6350"/>
                  <a:pt x="18353" y="6432"/>
                  <a:pt x="18281" y="6499"/>
                </a:cubicBezTo>
                <a:cubicBezTo>
                  <a:pt x="18226" y="6550"/>
                  <a:pt x="18140" y="6524"/>
                  <a:pt x="18083" y="6499"/>
                </a:cubicBezTo>
                <a:cubicBezTo>
                  <a:pt x="18044" y="6482"/>
                  <a:pt x="17987" y="6456"/>
                  <a:pt x="17983" y="6424"/>
                </a:cubicBezTo>
                <a:cubicBezTo>
                  <a:pt x="17983" y="6416"/>
                  <a:pt x="17983" y="6408"/>
                  <a:pt x="17983" y="6400"/>
                </a:cubicBezTo>
              </a:path>
              <a:path w="2432" h="447">
                <a:moveTo>
                  <a:pt x="18678" y="6350"/>
                </a:moveTo>
                <a:cubicBezTo>
                  <a:pt x="18678" y="6358"/>
                  <a:pt x="18678" y="6367"/>
                  <a:pt x="18678" y="6375"/>
                </a:cubicBezTo>
                <a:cubicBezTo>
                  <a:pt x="18648" y="6368"/>
                  <a:pt x="18603" y="6344"/>
                  <a:pt x="18628" y="6300"/>
                </a:cubicBezTo>
                <a:cubicBezTo>
                  <a:pt x="18644" y="6271"/>
                  <a:pt x="18701" y="6235"/>
                  <a:pt x="18728" y="6226"/>
                </a:cubicBezTo>
                <a:cubicBezTo>
                  <a:pt x="18788" y="6205"/>
                  <a:pt x="18841" y="6229"/>
                  <a:pt x="18876" y="6276"/>
                </a:cubicBezTo>
                <a:cubicBezTo>
                  <a:pt x="18917" y="6330"/>
                  <a:pt x="18915" y="6462"/>
                  <a:pt x="18901" y="6524"/>
                </a:cubicBezTo>
                <a:cubicBezTo>
                  <a:pt x="18880" y="6616"/>
                  <a:pt x="18750" y="6614"/>
                  <a:pt x="18678" y="6598"/>
                </a:cubicBezTo>
                <a:cubicBezTo>
                  <a:pt x="18592" y="6578"/>
                  <a:pt x="18559" y="6530"/>
                  <a:pt x="18554" y="6449"/>
                </a:cubicBezTo>
                <a:cubicBezTo>
                  <a:pt x="18554" y="6393"/>
                  <a:pt x="18559" y="6371"/>
                  <a:pt x="18604" y="63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3170160"/>
            <a:ext cx="384120" cy="446040"/>
          </a:xfrm>
          <a:custGeom>
            <a:avLst/>
            <a:gdLst/>
            <a:ahLst/>
            <a:rect l="l" t="t" r="r" b="b"/>
            <a:pathLst>
              <a:path w="1068" h="1241">
                <a:moveTo>
                  <a:pt x="2902" y="9823"/>
                </a:moveTo>
                <a:cubicBezTo>
                  <a:pt x="2910" y="9886"/>
                  <a:pt x="2917" y="9965"/>
                  <a:pt x="2952" y="10021"/>
                </a:cubicBezTo>
                <a:cubicBezTo>
                  <a:pt x="2960" y="10029"/>
                  <a:pt x="2969" y="10038"/>
                  <a:pt x="2977" y="10046"/>
                </a:cubicBezTo>
                <a:cubicBezTo>
                  <a:pt x="3112" y="10012"/>
                  <a:pt x="3196" y="9837"/>
                  <a:pt x="3274" y="9723"/>
                </a:cubicBezTo>
                <a:cubicBezTo>
                  <a:pt x="3493" y="9404"/>
                  <a:pt x="3720" y="9102"/>
                  <a:pt x="3969" y="88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28960" y="3071880"/>
            <a:ext cx="411120" cy="500040"/>
          </a:xfrm>
          <a:custGeom>
            <a:avLst/>
            <a:gdLst/>
            <a:ahLst/>
            <a:rect l="l" t="t" r="r" b="b"/>
            <a:pathLst>
              <a:path w="1142" h="1390">
                <a:moveTo>
                  <a:pt x="8136" y="9674"/>
                </a:moveTo>
                <a:cubicBezTo>
                  <a:pt x="8168" y="9745"/>
                  <a:pt x="8195" y="9801"/>
                  <a:pt x="8235" y="9872"/>
                </a:cubicBezTo>
                <a:cubicBezTo>
                  <a:pt x="8259" y="9920"/>
                  <a:pt x="8265" y="9937"/>
                  <a:pt x="8310" y="9922"/>
                </a:cubicBezTo>
                <a:cubicBezTo>
                  <a:pt x="8472" y="9795"/>
                  <a:pt x="8568" y="9574"/>
                  <a:pt x="8682" y="9401"/>
                </a:cubicBezTo>
                <a:cubicBezTo>
                  <a:pt x="8875" y="9107"/>
                  <a:pt x="9073" y="8819"/>
                  <a:pt x="9277" y="85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45080" y="3259080"/>
            <a:ext cx="258840" cy="2779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16049" y="9153"/>
                </a:moveTo>
                <a:cubicBezTo>
                  <a:pt x="16104" y="9098"/>
                  <a:pt x="16129" y="9100"/>
                  <a:pt x="16123" y="9054"/>
                </a:cubicBezTo>
                <a:cubicBezTo>
                  <a:pt x="16048" y="9073"/>
                  <a:pt x="15962" y="9155"/>
                  <a:pt x="15900" y="9203"/>
                </a:cubicBezTo>
                <a:cubicBezTo>
                  <a:pt x="15755" y="9315"/>
                  <a:pt x="15632" y="9446"/>
                  <a:pt x="15503" y="9575"/>
                </a:cubicBezTo>
                <a:cubicBezTo>
                  <a:pt x="15457" y="9621"/>
                  <a:pt x="15444" y="9635"/>
                  <a:pt x="15404" y="9649"/>
                </a:cubicBezTo>
              </a:path>
              <a:path w="720" h="770">
                <a:moveTo>
                  <a:pt x="15999" y="9823"/>
                </a:moveTo>
                <a:cubicBezTo>
                  <a:pt x="16032" y="9815"/>
                  <a:pt x="16065" y="9806"/>
                  <a:pt x="16098" y="9798"/>
                </a:cubicBezTo>
                <a:cubicBezTo>
                  <a:pt x="16083" y="9724"/>
                  <a:pt x="16029" y="9628"/>
                  <a:pt x="15974" y="9575"/>
                </a:cubicBezTo>
                <a:cubicBezTo>
                  <a:pt x="15857" y="9462"/>
                  <a:pt x="15701" y="9398"/>
                  <a:pt x="15577" y="9302"/>
                </a:cubicBezTo>
                <a:cubicBezTo>
                  <a:pt x="15552" y="9277"/>
                  <a:pt x="15528" y="9252"/>
                  <a:pt x="15503" y="92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00680" y="5180040"/>
            <a:ext cx="590400" cy="258840"/>
          </a:xfrm>
          <a:custGeom>
            <a:avLst/>
            <a:gdLst/>
            <a:ahLst/>
            <a:rect l="l" t="t" r="r" b="b"/>
            <a:pathLst>
              <a:path w="1639" h="720">
                <a:moveTo>
                  <a:pt x="11237" y="14436"/>
                </a:moveTo>
                <a:cubicBezTo>
                  <a:pt x="11253" y="14420"/>
                  <a:pt x="11270" y="14403"/>
                  <a:pt x="11286" y="14387"/>
                </a:cubicBezTo>
                <a:cubicBezTo>
                  <a:pt x="11276" y="14425"/>
                  <a:pt x="11259" y="14473"/>
                  <a:pt x="11237" y="14511"/>
                </a:cubicBezTo>
                <a:cubicBezTo>
                  <a:pt x="11179" y="14610"/>
                  <a:pt x="11167" y="14656"/>
                  <a:pt x="11137" y="14759"/>
                </a:cubicBezTo>
                <a:cubicBezTo>
                  <a:pt x="11119" y="14822"/>
                  <a:pt x="11089" y="14849"/>
                  <a:pt x="11137" y="14908"/>
                </a:cubicBezTo>
                <a:cubicBezTo>
                  <a:pt x="11175" y="14954"/>
                  <a:pt x="11263" y="14923"/>
                  <a:pt x="11311" y="14908"/>
                </a:cubicBezTo>
                <a:cubicBezTo>
                  <a:pt x="11389" y="14883"/>
                  <a:pt x="11452" y="14839"/>
                  <a:pt x="11534" y="14833"/>
                </a:cubicBezTo>
                <a:cubicBezTo>
                  <a:pt x="11581" y="14829"/>
                  <a:pt x="11592" y="14853"/>
                  <a:pt x="11633" y="14858"/>
                </a:cubicBezTo>
                <a:cubicBezTo>
                  <a:pt x="11661" y="14858"/>
                  <a:pt x="11672" y="14860"/>
                  <a:pt x="11683" y="14883"/>
                </a:cubicBezTo>
              </a:path>
              <a:path w="1639" h="720">
                <a:moveTo>
                  <a:pt x="11485" y="14734"/>
                </a:moveTo>
                <a:cubicBezTo>
                  <a:pt x="11442" y="14748"/>
                  <a:pt x="11460" y="14803"/>
                  <a:pt x="11460" y="14858"/>
                </a:cubicBezTo>
                <a:cubicBezTo>
                  <a:pt x="11460" y="14924"/>
                  <a:pt x="11460" y="14990"/>
                  <a:pt x="11460" y="15056"/>
                </a:cubicBezTo>
              </a:path>
              <a:path w="1639" h="720">
                <a:moveTo>
                  <a:pt x="11733" y="14734"/>
                </a:moveTo>
                <a:cubicBezTo>
                  <a:pt x="11725" y="14742"/>
                  <a:pt x="11716" y="14751"/>
                  <a:pt x="11708" y="14759"/>
                </a:cubicBezTo>
                <a:cubicBezTo>
                  <a:pt x="11708" y="14684"/>
                  <a:pt x="11703" y="14684"/>
                  <a:pt x="11757" y="14635"/>
                </a:cubicBezTo>
                <a:cubicBezTo>
                  <a:pt x="11805" y="14591"/>
                  <a:pt x="11883" y="14565"/>
                  <a:pt x="11931" y="14635"/>
                </a:cubicBezTo>
                <a:cubicBezTo>
                  <a:pt x="11983" y="14710"/>
                  <a:pt x="11991" y="14805"/>
                  <a:pt x="11956" y="14883"/>
                </a:cubicBezTo>
                <a:cubicBezTo>
                  <a:pt x="11919" y="14965"/>
                  <a:pt x="11831" y="14936"/>
                  <a:pt x="11757" y="14908"/>
                </a:cubicBezTo>
                <a:cubicBezTo>
                  <a:pt x="11708" y="14883"/>
                  <a:pt x="11691" y="14874"/>
                  <a:pt x="11658" y="14858"/>
                </a:cubicBezTo>
              </a:path>
              <a:path w="1639" h="720">
                <a:moveTo>
                  <a:pt x="12700" y="14585"/>
                </a:moveTo>
                <a:cubicBezTo>
                  <a:pt x="12708" y="14585"/>
                  <a:pt x="12717" y="14585"/>
                  <a:pt x="12725" y="14585"/>
                </a:cubicBezTo>
                <a:cubicBezTo>
                  <a:pt x="12681" y="14552"/>
                  <a:pt x="12659" y="14560"/>
                  <a:pt x="12601" y="14560"/>
                </a:cubicBezTo>
                <a:cubicBezTo>
                  <a:pt x="12514" y="14560"/>
                  <a:pt x="12425" y="14547"/>
                  <a:pt x="12353" y="14585"/>
                </a:cubicBezTo>
                <a:cubicBezTo>
                  <a:pt x="12266" y="14632"/>
                  <a:pt x="12251" y="14692"/>
                  <a:pt x="12229" y="14784"/>
                </a:cubicBezTo>
                <a:cubicBezTo>
                  <a:pt x="12208" y="14872"/>
                  <a:pt x="12234" y="14975"/>
                  <a:pt x="12254" y="15056"/>
                </a:cubicBezTo>
                <a:cubicBezTo>
                  <a:pt x="12269" y="15117"/>
                  <a:pt x="12291" y="15106"/>
                  <a:pt x="12353" y="15106"/>
                </a:cubicBezTo>
                <a:cubicBezTo>
                  <a:pt x="12425" y="15106"/>
                  <a:pt x="12731" y="15139"/>
                  <a:pt x="12750" y="15081"/>
                </a:cubicBezTo>
              </a:path>
              <a:path w="1639" h="720">
                <a:moveTo>
                  <a:pt x="12650" y="14982"/>
                </a:moveTo>
                <a:cubicBezTo>
                  <a:pt x="12611" y="14921"/>
                  <a:pt x="12619" y="14932"/>
                  <a:pt x="12551" y="14932"/>
                </a:cubicBezTo>
                <a:cubicBezTo>
                  <a:pt x="12477" y="14932"/>
                  <a:pt x="12402" y="14932"/>
                  <a:pt x="12328" y="149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13200" y="5232240"/>
            <a:ext cx="152640" cy="117720"/>
          </a:xfrm>
          <a:custGeom>
            <a:avLst/>
            <a:gdLst/>
            <a:ahLst/>
            <a:rect l="l" t="t" r="r" b="b"/>
            <a:pathLst>
              <a:path w="422" h="323">
                <a:moveTo>
                  <a:pt x="13791" y="14759"/>
                </a:moveTo>
                <a:cubicBezTo>
                  <a:pt x="13651" y="14759"/>
                  <a:pt x="13510" y="14759"/>
                  <a:pt x="13370" y="14759"/>
                </a:cubicBezTo>
              </a:path>
              <a:path w="422" h="323">
                <a:moveTo>
                  <a:pt x="13494" y="14585"/>
                </a:moveTo>
                <a:cubicBezTo>
                  <a:pt x="13494" y="14569"/>
                  <a:pt x="13494" y="14552"/>
                  <a:pt x="13494" y="14536"/>
                </a:cubicBezTo>
                <a:cubicBezTo>
                  <a:pt x="13494" y="14631"/>
                  <a:pt x="13487" y="14717"/>
                  <a:pt x="13519" y="14808"/>
                </a:cubicBezTo>
                <a:cubicBezTo>
                  <a:pt x="13527" y="14825"/>
                  <a:pt x="13535" y="14841"/>
                  <a:pt x="13543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25924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14932" y="14759"/>
                </a:moveTo>
                <a:cubicBezTo>
                  <a:pt x="14952" y="14718"/>
                  <a:pt x="14961" y="14712"/>
                  <a:pt x="14957" y="14684"/>
                </a:cubicBezTo>
                <a:cubicBezTo>
                  <a:pt x="14930" y="14733"/>
                  <a:pt x="14864" y="14796"/>
                  <a:pt x="14883" y="14858"/>
                </a:cubicBezTo>
                <a:cubicBezTo>
                  <a:pt x="14911" y="14949"/>
                  <a:pt x="15037" y="14932"/>
                  <a:pt x="15106" y="14957"/>
                </a:cubicBezTo>
                <a:cubicBezTo>
                  <a:pt x="15165" y="14978"/>
                  <a:pt x="15266" y="15002"/>
                  <a:pt x="15304" y="15056"/>
                </a:cubicBezTo>
                <a:cubicBezTo>
                  <a:pt x="15334" y="15098"/>
                  <a:pt x="15348" y="15186"/>
                  <a:pt x="15280" y="15205"/>
                </a:cubicBezTo>
                <a:cubicBezTo>
                  <a:pt x="15206" y="15226"/>
                  <a:pt x="15123" y="15191"/>
                  <a:pt x="15056" y="15180"/>
                </a:cubicBezTo>
                <a:cubicBezTo>
                  <a:pt x="15040" y="15180"/>
                  <a:pt x="15023" y="15180"/>
                  <a:pt x="15007" y="15180"/>
                </a:cubicBezTo>
              </a:path>
              <a:path w="993" h="596">
                <a:moveTo>
                  <a:pt x="15304" y="14684"/>
                </a:moveTo>
                <a:cubicBezTo>
                  <a:pt x="15324" y="14644"/>
                  <a:pt x="15333" y="14638"/>
                  <a:pt x="15329" y="14610"/>
                </a:cubicBezTo>
                <a:cubicBezTo>
                  <a:pt x="15265" y="14610"/>
                  <a:pt x="15219" y="14626"/>
                  <a:pt x="15156" y="14635"/>
                </a:cubicBezTo>
                <a:cubicBezTo>
                  <a:pt x="15139" y="14635"/>
                  <a:pt x="15123" y="14635"/>
                  <a:pt x="15106" y="14635"/>
                </a:cubicBezTo>
              </a:path>
              <a:path w="993" h="596">
                <a:moveTo>
                  <a:pt x="15577" y="14808"/>
                </a:moveTo>
                <a:cubicBezTo>
                  <a:pt x="15577" y="14833"/>
                  <a:pt x="15577" y="14841"/>
                  <a:pt x="15553" y="14833"/>
                </a:cubicBezTo>
                <a:cubicBezTo>
                  <a:pt x="15553" y="14769"/>
                  <a:pt x="15568" y="14765"/>
                  <a:pt x="15627" y="14734"/>
                </a:cubicBezTo>
                <a:cubicBezTo>
                  <a:pt x="15717" y="14686"/>
                  <a:pt x="15777" y="14759"/>
                  <a:pt x="15825" y="14833"/>
                </a:cubicBezTo>
                <a:cubicBezTo>
                  <a:pt x="15875" y="14910"/>
                  <a:pt x="15897" y="14999"/>
                  <a:pt x="15850" y="15081"/>
                </a:cubicBezTo>
                <a:cubicBezTo>
                  <a:pt x="15812" y="15147"/>
                  <a:pt x="15720" y="15082"/>
                  <a:pt x="15677" y="15056"/>
                </a:cubicBezTo>
                <a:cubicBezTo>
                  <a:pt x="15622" y="15023"/>
                  <a:pt x="15537" y="14949"/>
                  <a:pt x="15528" y="14883"/>
                </a:cubicBezTo>
                <a:cubicBezTo>
                  <a:pt x="15528" y="14838"/>
                  <a:pt x="15525" y="14825"/>
                  <a:pt x="15553" y="1480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9840" y="531324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6743" y="14784"/>
                </a:moveTo>
                <a:cubicBezTo>
                  <a:pt x="16771" y="14784"/>
                  <a:pt x="16782" y="14782"/>
                  <a:pt x="16793" y="14759"/>
                </a:cubicBezTo>
                <a:cubicBezTo>
                  <a:pt x="16860" y="14759"/>
                  <a:pt x="16754" y="14759"/>
                  <a:pt x="16743" y="14759"/>
                </a:cubicBezTo>
                <a:cubicBezTo>
                  <a:pt x="16681" y="14759"/>
                  <a:pt x="16576" y="14780"/>
                  <a:pt x="16520" y="14808"/>
                </a:cubicBezTo>
                <a:cubicBezTo>
                  <a:pt x="16490" y="14838"/>
                  <a:pt x="16476" y="14849"/>
                  <a:pt x="16446" y="14858"/>
                </a:cubicBezTo>
                <a:cubicBezTo>
                  <a:pt x="16446" y="14904"/>
                  <a:pt x="16453" y="14930"/>
                  <a:pt x="16495" y="14957"/>
                </a:cubicBezTo>
                <a:cubicBezTo>
                  <a:pt x="16561" y="14999"/>
                  <a:pt x="16626" y="15002"/>
                  <a:pt x="16694" y="15032"/>
                </a:cubicBezTo>
                <a:cubicBezTo>
                  <a:pt x="16742" y="15053"/>
                  <a:pt x="16787" y="15050"/>
                  <a:pt x="16793" y="15106"/>
                </a:cubicBezTo>
                <a:cubicBezTo>
                  <a:pt x="16793" y="15114"/>
                  <a:pt x="16793" y="15123"/>
                  <a:pt x="16793" y="15131"/>
                </a:cubicBezTo>
                <a:cubicBezTo>
                  <a:pt x="16733" y="15167"/>
                  <a:pt x="16669" y="15156"/>
                  <a:pt x="16594" y="15156"/>
                </a:cubicBezTo>
                <a:cubicBezTo>
                  <a:pt x="16545" y="15156"/>
                  <a:pt x="16528" y="15156"/>
                  <a:pt x="16495" y="1515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38960" y="5249880"/>
            <a:ext cx="320760" cy="32220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18554" y="15007"/>
                </a:moveTo>
                <a:cubicBezTo>
                  <a:pt x="18593" y="14955"/>
                  <a:pt x="18595" y="14961"/>
                  <a:pt x="18554" y="15007"/>
                </a:cubicBezTo>
                <a:cubicBezTo>
                  <a:pt x="18496" y="15072"/>
                  <a:pt x="18460" y="15138"/>
                  <a:pt x="18405" y="15205"/>
                </a:cubicBezTo>
                <a:cubicBezTo>
                  <a:pt x="18350" y="15272"/>
                  <a:pt x="18282" y="15316"/>
                  <a:pt x="18231" y="15379"/>
                </a:cubicBezTo>
                <a:cubicBezTo>
                  <a:pt x="18207" y="15404"/>
                  <a:pt x="18199" y="15413"/>
                  <a:pt x="18182" y="15429"/>
                </a:cubicBezTo>
              </a:path>
              <a:path w="894" h="894">
                <a:moveTo>
                  <a:pt x="18554" y="14932"/>
                </a:moveTo>
                <a:cubicBezTo>
                  <a:pt x="18505" y="14920"/>
                  <a:pt x="18497" y="14885"/>
                  <a:pt x="18455" y="14858"/>
                </a:cubicBezTo>
                <a:cubicBezTo>
                  <a:pt x="18373" y="14805"/>
                  <a:pt x="18262" y="14789"/>
                  <a:pt x="18182" y="14734"/>
                </a:cubicBezTo>
                <a:cubicBezTo>
                  <a:pt x="18107" y="14682"/>
                  <a:pt x="18024" y="14617"/>
                  <a:pt x="17934" y="14585"/>
                </a:cubicBezTo>
                <a:cubicBezTo>
                  <a:pt x="17909" y="14585"/>
                  <a:pt x="17901" y="14585"/>
                  <a:pt x="17884" y="14585"/>
                </a:cubicBezTo>
              </a:path>
              <a:path w="894" h="894">
                <a:moveTo>
                  <a:pt x="18728" y="15007"/>
                </a:moveTo>
                <a:cubicBezTo>
                  <a:pt x="18752" y="15007"/>
                  <a:pt x="18761" y="15007"/>
                  <a:pt x="18777" y="15007"/>
                </a:cubicBezTo>
                <a:cubicBezTo>
                  <a:pt x="18731" y="15053"/>
                  <a:pt x="18708" y="15097"/>
                  <a:pt x="18678" y="15156"/>
                </a:cubicBezTo>
                <a:cubicBezTo>
                  <a:pt x="18642" y="15227"/>
                  <a:pt x="18602" y="15292"/>
                  <a:pt x="18554" y="15354"/>
                </a:cubicBezTo>
                <a:cubicBezTo>
                  <a:pt x="18526" y="15391"/>
                  <a:pt x="18515" y="15435"/>
                  <a:pt x="18504" y="154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1200" y="5340240"/>
            <a:ext cx="689040" cy="21456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19422" y="14858"/>
                </a:moveTo>
                <a:cubicBezTo>
                  <a:pt x="19430" y="14850"/>
                  <a:pt x="19439" y="14841"/>
                  <a:pt x="19447" y="14833"/>
                </a:cubicBezTo>
                <a:cubicBezTo>
                  <a:pt x="19447" y="14990"/>
                  <a:pt x="19447" y="15147"/>
                  <a:pt x="19447" y="15304"/>
                </a:cubicBezTo>
              </a:path>
              <a:path w="1911" h="597">
                <a:moveTo>
                  <a:pt x="19893" y="14883"/>
                </a:moveTo>
                <a:cubicBezTo>
                  <a:pt x="19910" y="14875"/>
                  <a:pt x="19926" y="14866"/>
                  <a:pt x="19943" y="14858"/>
                </a:cubicBezTo>
                <a:cubicBezTo>
                  <a:pt x="19914" y="14887"/>
                  <a:pt x="19831" y="14923"/>
                  <a:pt x="19819" y="14957"/>
                </a:cubicBezTo>
                <a:cubicBezTo>
                  <a:pt x="19792" y="15033"/>
                  <a:pt x="19847" y="15067"/>
                  <a:pt x="19893" y="15106"/>
                </a:cubicBezTo>
                <a:cubicBezTo>
                  <a:pt x="19938" y="15144"/>
                  <a:pt x="19991" y="15135"/>
                  <a:pt x="20042" y="15180"/>
                </a:cubicBezTo>
                <a:cubicBezTo>
                  <a:pt x="20066" y="15201"/>
                  <a:pt x="20117" y="15210"/>
                  <a:pt x="20092" y="15255"/>
                </a:cubicBezTo>
                <a:cubicBezTo>
                  <a:pt x="20070" y="15294"/>
                  <a:pt x="19979" y="15290"/>
                  <a:pt x="19943" y="15280"/>
                </a:cubicBezTo>
                <a:cubicBezTo>
                  <a:pt x="19888" y="15252"/>
                  <a:pt x="19865" y="15244"/>
                  <a:pt x="19819" y="15255"/>
                </a:cubicBezTo>
              </a:path>
              <a:path w="1911" h="597">
                <a:moveTo>
                  <a:pt x="20191" y="14908"/>
                </a:moveTo>
                <a:cubicBezTo>
                  <a:pt x="20179" y="14859"/>
                  <a:pt x="20167" y="14858"/>
                  <a:pt x="20117" y="14858"/>
                </a:cubicBezTo>
                <a:cubicBezTo>
                  <a:pt x="20067" y="14858"/>
                  <a:pt x="20018" y="14858"/>
                  <a:pt x="19968" y="14858"/>
                </a:cubicBezTo>
              </a:path>
              <a:path w="1911" h="597">
                <a:moveTo>
                  <a:pt x="20389" y="15106"/>
                </a:moveTo>
                <a:cubicBezTo>
                  <a:pt x="20365" y="15081"/>
                  <a:pt x="20357" y="15072"/>
                  <a:pt x="20340" y="15056"/>
                </a:cubicBezTo>
                <a:cubicBezTo>
                  <a:pt x="20387" y="15010"/>
                  <a:pt x="20397" y="14986"/>
                  <a:pt x="20464" y="14982"/>
                </a:cubicBezTo>
                <a:cubicBezTo>
                  <a:pt x="20538" y="14978"/>
                  <a:pt x="20608" y="15014"/>
                  <a:pt x="20638" y="15081"/>
                </a:cubicBezTo>
                <a:cubicBezTo>
                  <a:pt x="20669" y="15150"/>
                  <a:pt x="20675" y="15247"/>
                  <a:pt x="20613" y="15304"/>
                </a:cubicBezTo>
                <a:cubicBezTo>
                  <a:pt x="20559" y="15354"/>
                  <a:pt x="20436" y="15328"/>
                  <a:pt x="20389" y="15280"/>
                </a:cubicBezTo>
                <a:cubicBezTo>
                  <a:pt x="20334" y="15225"/>
                  <a:pt x="20337" y="15167"/>
                  <a:pt x="20365" y="15106"/>
                </a:cubicBezTo>
                <a:cubicBezTo>
                  <a:pt x="20373" y="15089"/>
                  <a:pt x="20381" y="15073"/>
                  <a:pt x="20389" y="15056"/>
                </a:cubicBezTo>
              </a:path>
              <a:path w="1911" h="597">
                <a:moveTo>
                  <a:pt x="20985" y="15205"/>
                </a:moveTo>
                <a:cubicBezTo>
                  <a:pt x="20974" y="15179"/>
                  <a:pt x="20941" y="15115"/>
                  <a:pt x="20960" y="15081"/>
                </a:cubicBezTo>
                <a:cubicBezTo>
                  <a:pt x="20995" y="15018"/>
                  <a:pt x="21071" y="15010"/>
                  <a:pt x="21134" y="15007"/>
                </a:cubicBezTo>
                <a:cubicBezTo>
                  <a:pt x="21263" y="15002"/>
                  <a:pt x="21316" y="15049"/>
                  <a:pt x="21332" y="15180"/>
                </a:cubicBezTo>
                <a:cubicBezTo>
                  <a:pt x="21344" y="15274"/>
                  <a:pt x="21352" y="15403"/>
                  <a:pt x="21233" y="15429"/>
                </a:cubicBezTo>
                <a:cubicBezTo>
                  <a:pt x="21126" y="15452"/>
                  <a:pt x="21045" y="15381"/>
                  <a:pt x="20985" y="15304"/>
                </a:cubicBezTo>
                <a:cubicBezTo>
                  <a:pt x="20926" y="15229"/>
                  <a:pt x="20935" y="15194"/>
                  <a:pt x="20935" y="151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56000" y="5643720"/>
            <a:ext cx="276120" cy="25056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10046" y="15751"/>
                </a:moveTo>
                <a:cubicBezTo>
                  <a:pt x="10071" y="15677"/>
                  <a:pt x="10035" y="15681"/>
                  <a:pt x="9947" y="15677"/>
                </a:cubicBezTo>
                <a:cubicBezTo>
                  <a:pt x="9808" y="15671"/>
                  <a:pt x="9750" y="15681"/>
                  <a:pt x="9649" y="15776"/>
                </a:cubicBezTo>
                <a:cubicBezTo>
                  <a:pt x="9560" y="15860"/>
                  <a:pt x="9613" y="15927"/>
                  <a:pt x="9699" y="15999"/>
                </a:cubicBezTo>
                <a:cubicBezTo>
                  <a:pt x="9760" y="16049"/>
                  <a:pt x="9909" y="16078"/>
                  <a:pt x="9947" y="16148"/>
                </a:cubicBezTo>
                <a:cubicBezTo>
                  <a:pt x="9981" y="16211"/>
                  <a:pt x="9943" y="16272"/>
                  <a:pt x="9897" y="16297"/>
                </a:cubicBezTo>
                <a:cubicBezTo>
                  <a:pt x="9823" y="16338"/>
                  <a:pt x="9731" y="16321"/>
                  <a:pt x="9649" y="16321"/>
                </a:cubicBezTo>
              </a:path>
              <a:path w="770" h="695">
                <a:moveTo>
                  <a:pt x="10145" y="16247"/>
                </a:moveTo>
                <a:cubicBezTo>
                  <a:pt x="10129" y="16247"/>
                  <a:pt x="10112" y="16247"/>
                  <a:pt x="10096" y="16247"/>
                </a:cubicBezTo>
                <a:cubicBezTo>
                  <a:pt x="10096" y="16188"/>
                  <a:pt x="10116" y="16161"/>
                  <a:pt x="10170" y="16123"/>
                </a:cubicBezTo>
                <a:cubicBezTo>
                  <a:pt x="10254" y="16064"/>
                  <a:pt x="10309" y="16115"/>
                  <a:pt x="10344" y="16197"/>
                </a:cubicBezTo>
                <a:cubicBezTo>
                  <a:pt x="10364" y="16243"/>
                  <a:pt x="10397" y="16349"/>
                  <a:pt x="10319" y="16371"/>
                </a:cubicBezTo>
                <a:cubicBezTo>
                  <a:pt x="10267" y="16371"/>
                  <a:pt x="10249" y="16370"/>
                  <a:pt x="10220" y="163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5742000"/>
            <a:ext cx="447840" cy="23184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1757" y="15974"/>
                </a:moveTo>
                <a:cubicBezTo>
                  <a:pt x="11792" y="15948"/>
                  <a:pt x="11788" y="15949"/>
                  <a:pt x="11832" y="15949"/>
                </a:cubicBezTo>
                <a:cubicBezTo>
                  <a:pt x="11832" y="16008"/>
                  <a:pt x="11810" y="16071"/>
                  <a:pt x="11782" y="16123"/>
                </a:cubicBezTo>
                <a:cubicBezTo>
                  <a:pt x="11733" y="16215"/>
                  <a:pt x="11689" y="16289"/>
                  <a:pt x="11683" y="16396"/>
                </a:cubicBezTo>
                <a:cubicBezTo>
                  <a:pt x="11678" y="16489"/>
                  <a:pt x="11733" y="16470"/>
                  <a:pt x="11807" y="16470"/>
                </a:cubicBezTo>
                <a:cubicBezTo>
                  <a:pt x="11896" y="16470"/>
                  <a:pt x="11971" y="16434"/>
                  <a:pt x="12055" y="16421"/>
                </a:cubicBezTo>
                <a:cubicBezTo>
                  <a:pt x="12110" y="16412"/>
                  <a:pt x="12173" y="16421"/>
                  <a:pt x="12229" y="16421"/>
                </a:cubicBezTo>
              </a:path>
              <a:path w="1241" h="646">
                <a:moveTo>
                  <a:pt x="12005" y="16297"/>
                </a:moveTo>
                <a:cubicBezTo>
                  <a:pt x="11980" y="16289"/>
                  <a:pt x="11956" y="16280"/>
                  <a:pt x="11931" y="16272"/>
                </a:cubicBezTo>
                <a:cubicBezTo>
                  <a:pt x="11885" y="16348"/>
                  <a:pt x="11907" y="16432"/>
                  <a:pt x="11931" y="16520"/>
                </a:cubicBezTo>
                <a:cubicBezTo>
                  <a:pt x="11939" y="16545"/>
                  <a:pt x="11948" y="16569"/>
                  <a:pt x="11956" y="16594"/>
                </a:cubicBezTo>
              </a:path>
              <a:path w="1241" h="646">
                <a:moveTo>
                  <a:pt x="12824" y="16148"/>
                </a:moveTo>
                <a:cubicBezTo>
                  <a:pt x="12849" y="16148"/>
                  <a:pt x="12857" y="16148"/>
                  <a:pt x="12849" y="16123"/>
                </a:cubicBezTo>
                <a:cubicBezTo>
                  <a:pt x="12776" y="16123"/>
                  <a:pt x="12717" y="16118"/>
                  <a:pt x="12650" y="16148"/>
                </a:cubicBezTo>
                <a:cubicBezTo>
                  <a:pt x="12580" y="16179"/>
                  <a:pt x="12514" y="16234"/>
                  <a:pt x="12477" y="16297"/>
                </a:cubicBezTo>
                <a:cubicBezTo>
                  <a:pt x="12442" y="16356"/>
                  <a:pt x="12435" y="16437"/>
                  <a:pt x="12477" y="16495"/>
                </a:cubicBezTo>
                <a:cubicBezTo>
                  <a:pt x="12545" y="16590"/>
                  <a:pt x="12592" y="16594"/>
                  <a:pt x="12700" y="16594"/>
                </a:cubicBezTo>
                <a:cubicBezTo>
                  <a:pt x="12725" y="16594"/>
                  <a:pt x="12749" y="16594"/>
                  <a:pt x="12774" y="16594"/>
                </a:cubicBezTo>
              </a:path>
              <a:path w="1241" h="646">
                <a:moveTo>
                  <a:pt x="12923" y="16446"/>
                </a:moveTo>
                <a:cubicBezTo>
                  <a:pt x="12841" y="16387"/>
                  <a:pt x="12752" y="16318"/>
                  <a:pt x="12650" y="16297"/>
                </a:cubicBezTo>
                <a:cubicBezTo>
                  <a:pt x="12634" y="16297"/>
                  <a:pt x="12617" y="16297"/>
                  <a:pt x="12601" y="1629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8120" y="5848200"/>
            <a:ext cx="1000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3692" y="16396"/>
                </a:moveTo>
                <a:cubicBezTo>
                  <a:pt x="13709" y="16396"/>
                  <a:pt x="13725" y="16396"/>
                  <a:pt x="13742" y="16396"/>
                </a:cubicBezTo>
                <a:cubicBezTo>
                  <a:pt x="13692" y="16383"/>
                  <a:pt x="13678" y="16371"/>
                  <a:pt x="13618" y="16371"/>
                </a:cubicBezTo>
                <a:cubicBezTo>
                  <a:pt x="13568" y="16371"/>
                  <a:pt x="13552" y="16371"/>
                  <a:pt x="13519" y="16371"/>
                </a:cubicBezTo>
              </a:path>
              <a:path w="274" h="175">
                <a:moveTo>
                  <a:pt x="13469" y="16247"/>
                </a:moveTo>
                <a:cubicBezTo>
                  <a:pt x="13510" y="16247"/>
                  <a:pt x="13518" y="16247"/>
                  <a:pt x="13543" y="16247"/>
                </a:cubicBezTo>
                <a:cubicBezTo>
                  <a:pt x="13550" y="16307"/>
                  <a:pt x="13561" y="16361"/>
                  <a:pt x="13568" y="164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7960" y="5823000"/>
            <a:ext cx="3492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14536" y="16222"/>
                </a:moveTo>
                <a:cubicBezTo>
                  <a:pt x="14536" y="16206"/>
                  <a:pt x="14536" y="16189"/>
                  <a:pt x="14536" y="16173"/>
                </a:cubicBezTo>
                <a:cubicBezTo>
                  <a:pt x="14524" y="16220"/>
                  <a:pt x="14488" y="16231"/>
                  <a:pt x="14461" y="16272"/>
                </a:cubicBezTo>
                <a:cubicBezTo>
                  <a:pt x="14413" y="16346"/>
                  <a:pt x="14443" y="16381"/>
                  <a:pt x="14511" y="16421"/>
                </a:cubicBezTo>
                <a:cubicBezTo>
                  <a:pt x="14574" y="16459"/>
                  <a:pt x="14659" y="16432"/>
                  <a:pt x="14709" y="16495"/>
                </a:cubicBezTo>
                <a:cubicBezTo>
                  <a:pt x="14748" y="16544"/>
                  <a:pt x="14752" y="16602"/>
                  <a:pt x="14684" y="16619"/>
                </a:cubicBezTo>
                <a:cubicBezTo>
                  <a:pt x="14598" y="16641"/>
                  <a:pt x="14493" y="16613"/>
                  <a:pt x="14412" y="16594"/>
                </a:cubicBezTo>
              </a:path>
              <a:path w="968" h="596">
                <a:moveTo>
                  <a:pt x="14808" y="16346"/>
                </a:moveTo>
                <a:cubicBezTo>
                  <a:pt x="14825" y="16321"/>
                  <a:pt x="14841" y="16297"/>
                  <a:pt x="14858" y="16272"/>
                </a:cubicBezTo>
                <a:cubicBezTo>
                  <a:pt x="14803" y="16239"/>
                  <a:pt x="14703" y="16230"/>
                  <a:pt x="14635" y="16222"/>
                </a:cubicBezTo>
                <a:cubicBezTo>
                  <a:pt x="14610" y="16222"/>
                  <a:pt x="14585" y="16222"/>
                  <a:pt x="14560" y="16222"/>
                </a:cubicBezTo>
              </a:path>
              <a:path w="968" h="596">
                <a:moveTo>
                  <a:pt x="15329" y="16297"/>
                </a:moveTo>
                <a:cubicBezTo>
                  <a:pt x="15370" y="16277"/>
                  <a:pt x="15386" y="16279"/>
                  <a:pt x="15379" y="16247"/>
                </a:cubicBezTo>
                <a:cubicBezTo>
                  <a:pt x="15314" y="16260"/>
                  <a:pt x="15248" y="16290"/>
                  <a:pt x="15205" y="16346"/>
                </a:cubicBezTo>
                <a:cubicBezTo>
                  <a:pt x="15150" y="16417"/>
                  <a:pt x="15198" y="16516"/>
                  <a:pt x="15255" y="16570"/>
                </a:cubicBezTo>
                <a:cubicBezTo>
                  <a:pt x="15304" y="16617"/>
                  <a:pt x="15371" y="16646"/>
                  <a:pt x="15379" y="16718"/>
                </a:cubicBezTo>
                <a:cubicBezTo>
                  <a:pt x="15379" y="16726"/>
                  <a:pt x="15379" y="16735"/>
                  <a:pt x="15379" y="16743"/>
                </a:cubicBezTo>
                <a:cubicBezTo>
                  <a:pt x="15300" y="16743"/>
                  <a:pt x="15233" y="16759"/>
                  <a:pt x="15156" y="1676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2000" y="582300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16371" y="16644"/>
                </a:moveTo>
                <a:cubicBezTo>
                  <a:pt x="16416" y="16610"/>
                  <a:pt x="16422" y="16587"/>
                  <a:pt x="16346" y="16619"/>
                </a:cubicBezTo>
                <a:cubicBezTo>
                  <a:pt x="16284" y="16645"/>
                  <a:pt x="16212" y="16686"/>
                  <a:pt x="16148" y="16718"/>
                </a:cubicBezTo>
                <a:cubicBezTo>
                  <a:pt x="16131" y="16726"/>
                  <a:pt x="16115" y="16735"/>
                  <a:pt x="16098" y="16743"/>
                </a:cubicBezTo>
              </a:path>
              <a:path w="795" h="596">
                <a:moveTo>
                  <a:pt x="16421" y="16545"/>
                </a:moveTo>
                <a:cubicBezTo>
                  <a:pt x="16447" y="16459"/>
                  <a:pt x="16474" y="16440"/>
                  <a:pt x="16396" y="16396"/>
                </a:cubicBezTo>
                <a:cubicBezTo>
                  <a:pt x="16299" y="16341"/>
                  <a:pt x="16195" y="16299"/>
                  <a:pt x="16098" y="16247"/>
                </a:cubicBezTo>
                <a:cubicBezTo>
                  <a:pt x="16027" y="16199"/>
                  <a:pt x="16006" y="16183"/>
                  <a:pt x="15949" y="16173"/>
                </a:cubicBezTo>
              </a:path>
              <a:path w="795" h="596">
                <a:moveTo>
                  <a:pt x="16743" y="16644"/>
                </a:moveTo>
                <a:cubicBezTo>
                  <a:pt x="16717" y="16651"/>
                  <a:pt x="16640" y="16672"/>
                  <a:pt x="16619" y="16694"/>
                </a:cubicBezTo>
                <a:cubicBezTo>
                  <a:pt x="16597" y="16737"/>
                  <a:pt x="16593" y="16748"/>
                  <a:pt x="16570" y="1676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2680" y="5875200"/>
            <a:ext cx="509400" cy="196920"/>
          </a:xfrm>
          <a:custGeom>
            <a:avLst/>
            <a:gdLst/>
            <a:ahLst/>
            <a:rect l="l" t="t" r="r" b="b"/>
            <a:pathLst>
              <a:path w="1415" h="547">
                <a:moveTo>
                  <a:pt x="17363" y="16371"/>
                </a:moveTo>
                <a:cubicBezTo>
                  <a:pt x="17363" y="16435"/>
                  <a:pt x="17345" y="16483"/>
                  <a:pt x="17338" y="16545"/>
                </a:cubicBezTo>
                <a:cubicBezTo>
                  <a:pt x="17331" y="16608"/>
                  <a:pt x="17321" y="16657"/>
                  <a:pt x="17314" y="16718"/>
                </a:cubicBezTo>
              </a:path>
              <a:path w="1415" h="547">
                <a:moveTo>
                  <a:pt x="17661" y="16495"/>
                </a:moveTo>
                <a:cubicBezTo>
                  <a:pt x="17717" y="16462"/>
                  <a:pt x="17771" y="16453"/>
                  <a:pt x="17785" y="16396"/>
                </a:cubicBezTo>
                <a:cubicBezTo>
                  <a:pt x="17746" y="16396"/>
                  <a:pt x="17711" y="16385"/>
                  <a:pt x="17686" y="16421"/>
                </a:cubicBezTo>
                <a:cubicBezTo>
                  <a:pt x="17648" y="16475"/>
                  <a:pt x="17662" y="16548"/>
                  <a:pt x="17711" y="16594"/>
                </a:cubicBezTo>
                <a:cubicBezTo>
                  <a:pt x="17769" y="16648"/>
                  <a:pt x="17866" y="16638"/>
                  <a:pt x="17934" y="16669"/>
                </a:cubicBezTo>
                <a:cubicBezTo>
                  <a:pt x="17950" y="16676"/>
                  <a:pt x="18051" y="16728"/>
                  <a:pt x="18008" y="16768"/>
                </a:cubicBezTo>
                <a:cubicBezTo>
                  <a:pt x="17960" y="16812"/>
                  <a:pt x="17866" y="16793"/>
                  <a:pt x="17810" y="16793"/>
                </a:cubicBezTo>
                <a:cubicBezTo>
                  <a:pt x="17785" y="16793"/>
                  <a:pt x="17760" y="16793"/>
                  <a:pt x="17735" y="16793"/>
                </a:cubicBezTo>
              </a:path>
              <a:path w="1415" h="547">
                <a:moveTo>
                  <a:pt x="18083" y="16446"/>
                </a:moveTo>
                <a:cubicBezTo>
                  <a:pt x="18138" y="16390"/>
                  <a:pt x="18163" y="16392"/>
                  <a:pt x="18157" y="16346"/>
                </a:cubicBezTo>
                <a:cubicBezTo>
                  <a:pt x="18086" y="16346"/>
                  <a:pt x="18024" y="16329"/>
                  <a:pt x="17959" y="16321"/>
                </a:cubicBezTo>
                <a:cubicBezTo>
                  <a:pt x="17934" y="16321"/>
                  <a:pt x="17909" y="16321"/>
                  <a:pt x="17884" y="16321"/>
                </a:cubicBezTo>
              </a:path>
              <a:path w="1415" h="547">
                <a:moveTo>
                  <a:pt x="18306" y="16594"/>
                </a:moveTo>
                <a:cubicBezTo>
                  <a:pt x="18344" y="16582"/>
                  <a:pt x="18332" y="16538"/>
                  <a:pt x="18355" y="16495"/>
                </a:cubicBezTo>
                <a:cubicBezTo>
                  <a:pt x="18397" y="16416"/>
                  <a:pt x="18487" y="16382"/>
                  <a:pt x="18579" y="16396"/>
                </a:cubicBezTo>
                <a:cubicBezTo>
                  <a:pt x="18715" y="16416"/>
                  <a:pt x="18741" y="16605"/>
                  <a:pt x="18728" y="16718"/>
                </a:cubicBezTo>
                <a:cubicBezTo>
                  <a:pt x="18714" y="16843"/>
                  <a:pt x="18625" y="16923"/>
                  <a:pt x="18504" y="16842"/>
                </a:cubicBezTo>
                <a:cubicBezTo>
                  <a:pt x="18385" y="16763"/>
                  <a:pt x="18365" y="16649"/>
                  <a:pt x="18355" y="165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31920" y="6589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3473" y="18331"/>
                </a:moveTo>
                <a:cubicBezTo>
                  <a:pt x="3473" y="18292"/>
                  <a:pt x="3456" y="18306"/>
                  <a:pt x="3423" y="183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81120" y="1704960"/>
            <a:ext cx="723960" cy="233280"/>
          </a:xfrm>
          <a:custGeom>
            <a:avLst/>
            <a:gdLst/>
            <a:ahLst/>
            <a:rect l="l" t="t" r="r" b="b"/>
            <a:pathLst>
              <a:path w="2011" h="646">
                <a:moveTo>
                  <a:pt x="4415" y="4887"/>
                </a:moveTo>
                <a:cubicBezTo>
                  <a:pt x="4425" y="4848"/>
                  <a:pt x="4458" y="4827"/>
                  <a:pt x="4465" y="4812"/>
                </a:cubicBezTo>
                <a:cubicBezTo>
                  <a:pt x="4487" y="4767"/>
                  <a:pt x="4487" y="4762"/>
                  <a:pt x="4465" y="4837"/>
                </a:cubicBezTo>
                <a:cubicBezTo>
                  <a:pt x="4444" y="4909"/>
                  <a:pt x="4406" y="4987"/>
                  <a:pt x="4390" y="5060"/>
                </a:cubicBezTo>
                <a:cubicBezTo>
                  <a:pt x="4381" y="5103"/>
                  <a:pt x="4374" y="5209"/>
                  <a:pt x="4415" y="5234"/>
                </a:cubicBezTo>
                <a:cubicBezTo>
                  <a:pt x="4462" y="5264"/>
                  <a:pt x="4547" y="5216"/>
                  <a:pt x="4589" y="5209"/>
                </a:cubicBezTo>
                <a:cubicBezTo>
                  <a:pt x="4658" y="5197"/>
                  <a:pt x="4714" y="5184"/>
                  <a:pt x="4787" y="5184"/>
                </a:cubicBezTo>
                <a:cubicBezTo>
                  <a:pt x="4799" y="5184"/>
                  <a:pt x="5016" y="5186"/>
                  <a:pt x="4986" y="5209"/>
                </a:cubicBezTo>
                <a:cubicBezTo>
                  <a:pt x="4978" y="5209"/>
                  <a:pt x="4969" y="5209"/>
                  <a:pt x="4961" y="5209"/>
                </a:cubicBezTo>
              </a:path>
              <a:path w="2011" h="646">
                <a:moveTo>
                  <a:pt x="4688" y="5060"/>
                </a:moveTo>
                <a:cubicBezTo>
                  <a:pt x="4648" y="5073"/>
                  <a:pt x="4663" y="5108"/>
                  <a:pt x="4663" y="5159"/>
                </a:cubicBezTo>
                <a:cubicBezTo>
                  <a:pt x="4663" y="5238"/>
                  <a:pt x="4650" y="5319"/>
                  <a:pt x="4688" y="5383"/>
                </a:cubicBezTo>
              </a:path>
              <a:path w="2011" h="646">
                <a:moveTo>
                  <a:pt x="5259" y="4837"/>
                </a:moveTo>
                <a:cubicBezTo>
                  <a:pt x="5283" y="4812"/>
                  <a:pt x="5291" y="4803"/>
                  <a:pt x="5308" y="4787"/>
                </a:cubicBezTo>
                <a:cubicBezTo>
                  <a:pt x="5296" y="4849"/>
                  <a:pt x="5283" y="4894"/>
                  <a:pt x="5283" y="4961"/>
                </a:cubicBezTo>
                <a:cubicBezTo>
                  <a:pt x="5283" y="5029"/>
                  <a:pt x="5309" y="5092"/>
                  <a:pt x="5383" y="5110"/>
                </a:cubicBezTo>
                <a:cubicBezTo>
                  <a:pt x="5442" y="5124"/>
                  <a:pt x="5598" y="5070"/>
                  <a:pt x="5631" y="5135"/>
                </a:cubicBezTo>
                <a:cubicBezTo>
                  <a:pt x="5661" y="5194"/>
                  <a:pt x="5588" y="5196"/>
                  <a:pt x="5556" y="5209"/>
                </a:cubicBezTo>
                <a:cubicBezTo>
                  <a:pt x="5481" y="5239"/>
                  <a:pt x="5414" y="5234"/>
                  <a:pt x="5333" y="5234"/>
                </a:cubicBezTo>
                <a:cubicBezTo>
                  <a:pt x="5292" y="5234"/>
                  <a:pt x="5284" y="5234"/>
                  <a:pt x="5259" y="5234"/>
                </a:cubicBezTo>
              </a:path>
              <a:path w="2011" h="646">
                <a:moveTo>
                  <a:pt x="5631" y="4787"/>
                </a:moveTo>
                <a:cubicBezTo>
                  <a:pt x="5563" y="4707"/>
                  <a:pt x="5559" y="4747"/>
                  <a:pt x="5457" y="4762"/>
                </a:cubicBezTo>
                <a:cubicBezTo>
                  <a:pt x="5392" y="4771"/>
                  <a:pt x="5344" y="4785"/>
                  <a:pt x="5283" y="4812"/>
                </a:cubicBezTo>
              </a:path>
              <a:path w="2011" h="646">
                <a:moveTo>
                  <a:pt x="5854" y="5085"/>
                </a:moveTo>
                <a:cubicBezTo>
                  <a:pt x="5900" y="5039"/>
                  <a:pt x="5912" y="5035"/>
                  <a:pt x="5978" y="5035"/>
                </a:cubicBezTo>
                <a:cubicBezTo>
                  <a:pt x="6050" y="5035"/>
                  <a:pt x="6031" y="5028"/>
                  <a:pt x="6077" y="5085"/>
                </a:cubicBezTo>
                <a:cubicBezTo>
                  <a:pt x="6106" y="5121"/>
                  <a:pt x="6102" y="5137"/>
                  <a:pt x="6102" y="5184"/>
                </a:cubicBezTo>
                <a:cubicBezTo>
                  <a:pt x="6044" y="5184"/>
                  <a:pt x="5986" y="5184"/>
                  <a:pt x="5928" y="5184"/>
                </a:cubicBezTo>
              </a:path>
              <a:path w="2011" h="646">
                <a:moveTo>
                  <a:pt x="6226" y="4911"/>
                </a:moveTo>
                <a:cubicBezTo>
                  <a:pt x="6234" y="4895"/>
                  <a:pt x="6243" y="4878"/>
                  <a:pt x="6251" y="4862"/>
                </a:cubicBezTo>
                <a:cubicBezTo>
                  <a:pt x="6208" y="4905"/>
                  <a:pt x="6124" y="4979"/>
                  <a:pt x="6102" y="5035"/>
                </a:cubicBezTo>
                <a:cubicBezTo>
                  <a:pt x="6080" y="5092"/>
                  <a:pt x="6105" y="5216"/>
                  <a:pt x="6152" y="5259"/>
                </a:cubicBezTo>
                <a:cubicBezTo>
                  <a:pt x="6205" y="5308"/>
                  <a:pt x="6295" y="5283"/>
                  <a:pt x="6350" y="5259"/>
                </a:cubicBezTo>
                <a:cubicBezTo>
                  <a:pt x="6367" y="5251"/>
                  <a:pt x="6383" y="5242"/>
                  <a:pt x="6400" y="523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24120" y="1758960"/>
            <a:ext cx="1508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7962" y="4986"/>
                </a:moveTo>
                <a:cubicBezTo>
                  <a:pt x="8003" y="4986"/>
                  <a:pt x="7929" y="4986"/>
                  <a:pt x="7888" y="4986"/>
                </a:cubicBezTo>
                <a:cubicBezTo>
                  <a:pt x="7791" y="4986"/>
                  <a:pt x="7774" y="5061"/>
                  <a:pt x="7689" y="5085"/>
                </a:cubicBezTo>
                <a:cubicBezTo>
                  <a:pt x="7650" y="5096"/>
                  <a:pt x="7605" y="5102"/>
                  <a:pt x="7565" y="5110"/>
                </a:cubicBezTo>
              </a:path>
              <a:path w="423" h="373">
                <a:moveTo>
                  <a:pt x="7714" y="4911"/>
                </a:moveTo>
                <a:cubicBezTo>
                  <a:pt x="7731" y="4903"/>
                  <a:pt x="7747" y="4895"/>
                  <a:pt x="7764" y="4887"/>
                </a:cubicBezTo>
                <a:cubicBezTo>
                  <a:pt x="7764" y="5001"/>
                  <a:pt x="7774" y="5100"/>
                  <a:pt x="7789" y="5209"/>
                </a:cubicBezTo>
                <a:cubicBezTo>
                  <a:pt x="7789" y="5226"/>
                  <a:pt x="7789" y="5242"/>
                  <a:pt x="7789" y="525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52880" y="1616040"/>
            <a:ext cx="642960" cy="438120"/>
          </a:xfrm>
          <a:custGeom>
            <a:avLst/>
            <a:gdLst/>
            <a:ahLst/>
            <a:rect l="l" t="t" r="r" b="b"/>
            <a:pathLst>
              <a:path w="1787" h="1216">
                <a:moveTo>
                  <a:pt x="8756" y="4663"/>
                </a:moveTo>
                <a:cubicBezTo>
                  <a:pt x="8810" y="4614"/>
                  <a:pt x="8867" y="4535"/>
                  <a:pt x="8954" y="4564"/>
                </a:cubicBezTo>
                <a:cubicBezTo>
                  <a:pt x="9038" y="4592"/>
                  <a:pt x="9046" y="4657"/>
                  <a:pt x="9029" y="4738"/>
                </a:cubicBezTo>
                <a:cubicBezTo>
                  <a:pt x="9013" y="4816"/>
                  <a:pt x="8965" y="4890"/>
                  <a:pt x="8930" y="4961"/>
                </a:cubicBezTo>
                <a:cubicBezTo>
                  <a:pt x="8903" y="5015"/>
                  <a:pt x="8905" y="5052"/>
                  <a:pt x="8905" y="5110"/>
                </a:cubicBezTo>
                <a:cubicBezTo>
                  <a:pt x="8905" y="5118"/>
                  <a:pt x="8905" y="5127"/>
                  <a:pt x="8905" y="5135"/>
                </a:cubicBezTo>
                <a:cubicBezTo>
                  <a:pt x="8987" y="5135"/>
                  <a:pt x="9052" y="5123"/>
                  <a:pt x="9128" y="5110"/>
                </a:cubicBezTo>
                <a:cubicBezTo>
                  <a:pt x="9192" y="5099"/>
                  <a:pt x="9222" y="5118"/>
                  <a:pt x="9277" y="5085"/>
                </a:cubicBezTo>
              </a:path>
              <a:path w="1787" h="1216">
                <a:moveTo>
                  <a:pt x="9550" y="4614"/>
                </a:moveTo>
                <a:cubicBezTo>
                  <a:pt x="9607" y="4557"/>
                  <a:pt x="9536" y="4664"/>
                  <a:pt x="9525" y="4688"/>
                </a:cubicBezTo>
                <a:cubicBezTo>
                  <a:pt x="9496" y="4750"/>
                  <a:pt x="9491" y="4811"/>
                  <a:pt x="9550" y="4862"/>
                </a:cubicBezTo>
                <a:cubicBezTo>
                  <a:pt x="9601" y="4906"/>
                  <a:pt x="9690" y="4892"/>
                  <a:pt x="9748" y="4911"/>
                </a:cubicBezTo>
                <a:cubicBezTo>
                  <a:pt x="9794" y="4926"/>
                  <a:pt x="9843" y="4934"/>
                  <a:pt x="9847" y="4986"/>
                </a:cubicBezTo>
                <a:cubicBezTo>
                  <a:pt x="9851" y="5043"/>
                  <a:pt x="9810" y="5099"/>
                  <a:pt x="9748" y="5110"/>
                </a:cubicBezTo>
                <a:cubicBezTo>
                  <a:pt x="9682" y="5110"/>
                  <a:pt x="9665" y="5110"/>
                  <a:pt x="9624" y="5110"/>
                </a:cubicBezTo>
              </a:path>
              <a:path w="1787" h="1216">
                <a:moveTo>
                  <a:pt x="9872" y="4514"/>
                </a:moveTo>
                <a:cubicBezTo>
                  <a:pt x="9880" y="4506"/>
                  <a:pt x="9889" y="4498"/>
                  <a:pt x="9897" y="4490"/>
                </a:cubicBezTo>
                <a:cubicBezTo>
                  <a:pt x="9847" y="4490"/>
                  <a:pt x="9795" y="4502"/>
                  <a:pt x="9748" y="4514"/>
                </a:cubicBezTo>
                <a:cubicBezTo>
                  <a:pt x="9682" y="4531"/>
                  <a:pt x="9640" y="4556"/>
                  <a:pt x="9575" y="4564"/>
                </a:cubicBezTo>
              </a:path>
              <a:path w="1787" h="1216">
                <a:moveTo>
                  <a:pt x="10145" y="4911"/>
                </a:moveTo>
                <a:cubicBezTo>
                  <a:pt x="10137" y="4903"/>
                  <a:pt x="10128" y="4895"/>
                  <a:pt x="10120" y="4887"/>
                </a:cubicBezTo>
                <a:cubicBezTo>
                  <a:pt x="10120" y="4934"/>
                  <a:pt x="10137" y="4950"/>
                  <a:pt x="10145" y="4986"/>
                </a:cubicBezTo>
                <a:cubicBezTo>
                  <a:pt x="10161" y="5059"/>
                  <a:pt x="10196" y="5083"/>
                  <a:pt x="10269" y="5035"/>
                </a:cubicBezTo>
                <a:cubicBezTo>
                  <a:pt x="10317" y="5003"/>
                  <a:pt x="10353" y="4956"/>
                  <a:pt x="10393" y="4936"/>
                </a:cubicBezTo>
                <a:cubicBezTo>
                  <a:pt x="10489" y="4975"/>
                  <a:pt x="10492" y="5061"/>
                  <a:pt x="10517" y="5159"/>
                </a:cubicBezTo>
                <a:cubicBezTo>
                  <a:pt x="10551" y="5293"/>
                  <a:pt x="10561" y="5390"/>
                  <a:pt x="10492" y="5507"/>
                </a:cubicBezTo>
                <a:cubicBezTo>
                  <a:pt x="10421" y="5628"/>
                  <a:pt x="10305" y="5663"/>
                  <a:pt x="10170" y="5680"/>
                </a:cubicBezTo>
                <a:cubicBezTo>
                  <a:pt x="10078" y="5692"/>
                  <a:pt x="9991" y="5705"/>
                  <a:pt x="9897" y="570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03800" y="1616040"/>
            <a:ext cx="304560" cy="2239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2551" y="4539"/>
                </a:moveTo>
                <a:cubicBezTo>
                  <a:pt x="12591" y="4519"/>
                  <a:pt x="12608" y="4521"/>
                  <a:pt x="12601" y="4490"/>
                </a:cubicBezTo>
                <a:cubicBezTo>
                  <a:pt x="12565" y="4499"/>
                  <a:pt x="12534" y="4532"/>
                  <a:pt x="12502" y="4539"/>
                </a:cubicBezTo>
                <a:cubicBezTo>
                  <a:pt x="12424" y="4556"/>
                  <a:pt x="12356" y="4585"/>
                  <a:pt x="12278" y="4614"/>
                </a:cubicBezTo>
                <a:cubicBezTo>
                  <a:pt x="12211" y="4639"/>
                  <a:pt x="12158" y="4664"/>
                  <a:pt x="12105" y="4713"/>
                </a:cubicBezTo>
                <a:cubicBezTo>
                  <a:pt x="12084" y="4732"/>
                  <a:pt x="12037" y="4784"/>
                  <a:pt x="12030" y="4787"/>
                </a:cubicBezTo>
                <a:cubicBezTo>
                  <a:pt x="12007" y="4799"/>
                  <a:pt x="12025" y="4808"/>
                  <a:pt x="12080" y="4812"/>
                </a:cubicBezTo>
                <a:cubicBezTo>
                  <a:pt x="12171" y="4818"/>
                  <a:pt x="12264" y="4821"/>
                  <a:pt x="12353" y="4837"/>
                </a:cubicBezTo>
                <a:cubicBezTo>
                  <a:pt x="12454" y="4855"/>
                  <a:pt x="12553" y="4896"/>
                  <a:pt x="12650" y="4911"/>
                </a:cubicBezTo>
                <a:cubicBezTo>
                  <a:pt x="12710" y="4920"/>
                  <a:pt x="12752" y="4926"/>
                  <a:pt x="12799" y="4961"/>
                </a:cubicBezTo>
              </a:path>
              <a:path w="844" h="621">
                <a:moveTo>
                  <a:pt x="12601" y="5110"/>
                </a:moveTo>
                <a:cubicBezTo>
                  <a:pt x="12593" y="5110"/>
                  <a:pt x="12584" y="5110"/>
                  <a:pt x="12576" y="5110"/>
                </a:cubicBezTo>
                <a:cubicBezTo>
                  <a:pt x="12563" y="5072"/>
                  <a:pt x="12547" y="5085"/>
                  <a:pt x="12502" y="5085"/>
                </a:cubicBezTo>
                <a:cubicBezTo>
                  <a:pt x="12489" y="5047"/>
                  <a:pt x="12472" y="5060"/>
                  <a:pt x="12427" y="5060"/>
                </a:cubicBezTo>
                <a:cubicBezTo>
                  <a:pt x="12414" y="5022"/>
                  <a:pt x="12398" y="5035"/>
                  <a:pt x="12353" y="5035"/>
                </a:cubicBezTo>
                <a:cubicBezTo>
                  <a:pt x="12345" y="5035"/>
                  <a:pt x="12336" y="5035"/>
                  <a:pt x="12328" y="5035"/>
                </a:cubicBezTo>
                <a:cubicBezTo>
                  <a:pt x="12310" y="4983"/>
                  <a:pt x="12296" y="5035"/>
                  <a:pt x="12254" y="5011"/>
                </a:cubicBezTo>
                <a:cubicBezTo>
                  <a:pt x="12219" y="4991"/>
                  <a:pt x="12196" y="4966"/>
                  <a:pt x="12154" y="4961"/>
                </a:cubicBezTo>
                <a:cubicBezTo>
                  <a:pt x="12117" y="4957"/>
                  <a:pt x="12083" y="4935"/>
                  <a:pt x="12055" y="4911"/>
                </a:cubicBezTo>
                <a:cubicBezTo>
                  <a:pt x="12023" y="4883"/>
                  <a:pt x="12021" y="4887"/>
                  <a:pt x="11981" y="4887"/>
                </a:cubicBezTo>
                <a:cubicBezTo>
                  <a:pt x="11981" y="4862"/>
                  <a:pt x="11981" y="4854"/>
                  <a:pt x="11956" y="486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02120" y="1608120"/>
            <a:ext cx="696960" cy="177840"/>
          </a:xfrm>
          <a:custGeom>
            <a:avLst/>
            <a:gdLst/>
            <a:ahLst/>
            <a:rect l="l" t="t" r="r" b="b"/>
            <a:pathLst>
              <a:path w="1936" h="497">
                <a:moveTo>
                  <a:pt x="13643" y="4638"/>
                </a:moveTo>
                <a:cubicBezTo>
                  <a:pt x="13614" y="4629"/>
                  <a:pt x="13596" y="4588"/>
                  <a:pt x="13643" y="4564"/>
                </a:cubicBezTo>
                <a:cubicBezTo>
                  <a:pt x="13688" y="4541"/>
                  <a:pt x="13702" y="4480"/>
                  <a:pt x="13767" y="4465"/>
                </a:cubicBezTo>
                <a:cubicBezTo>
                  <a:pt x="13812" y="4454"/>
                  <a:pt x="13920" y="4459"/>
                  <a:pt x="13940" y="4514"/>
                </a:cubicBezTo>
                <a:cubicBezTo>
                  <a:pt x="13960" y="4570"/>
                  <a:pt x="13937" y="4645"/>
                  <a:pt x="13915" y="4688"/>
                </a:cubicBezTo>
                <a:cubicBezTo>
                  <a:pt x="13889" y="4738"/>
                  <a:pt x="13805" y="4788"/>
                  <a:pt x="13791" y="4837"/>
                </a:cubicBezTo>
                <a:cubicBezTo>
                  <a:pt x="13784" y="4861"/>
                  <a:pt x="13791" y="4909"/>
                  <a:pt x="13791" y="4936"/>
                </a:cubicBezTo>
                <a:cubicBezTo>
                  <a:pt x="13845" y="4936"/>
                  <a:pt x="13892" y="4928"/>
                  <a:pt x="13940" y="4911"/>
                </a:cubicBezTo>
                <a:cubicBezTo>
                  <a:pt x="14003" y="4889"/>
                  <a:pt x="14081" y="4910"/>
                  <a:pt x="14139" y="4887"/>
                </a:cubicBezTo>
                <a:cubicBezTo>
                  <a:pt x="14161" y="4864"/>
                  <a:pt x="14166" y="4856"/>
                  <a:pt x="14188" y="4862"/>
                </a:cubicBezTo>
              </a:path>
              <a:path w="1936" h="497">
                <a:moveTo>
                  <a:pt x="14486" y="4663"/>
                </a:moveTo>
                <a:cubicBezTo>
                  <a:pt x="14441" y="4656"/>
                  <a:pt x="14417" y="4657"/>
                  <a:pt x="14412" y="4614"/>
                </a:cubicBezTo>
                <a:cubicBezTo>
                  <a:pt x="14406" y="4563"/>
                  <a:pt x="14426" y="4548"/>
                  <a:pt x="14461" y="4514"/>
                </a:cubicBezTo>
                <a:cubicBezTo>
                  <a:pt x="14487" y="4488"/>
                  <a:pt x="14548" y="4472"/>
                  <a:pt x="14585" y="4490"/>
                </a:cubicBezTo>
                <a:cubicBezTo>
                  <a:pt x="14642" y="4517"/>
                  <a:pt x="14658" y="4583"/>
                  <a:pt x="14660" y="4638"/>
                </a:cubicBezTo>
                <a:cubicBezTo>
                  <a:pt x="14663" y="4708"/>
                  <a:pt x="14636" y="4805"/>
                  <a:pt x="14560" y="4837"/>
                </a:cubicBezTo>
                <a:cubicBezTo>
                  <a:pt x="14519" y="4854"/>
                  <a:pt x="14365" y="4853"/>
                  <a:pt x="14337" y="4812"/>
                </a:cubicBezTo>
                <a:cubicBezTo>
                  <a:pt x="14309" y="4772"/>
                  <a:pt x="14312" y="4755"/>
                  <a:pt x="14312" y="4713"/>
                </a:cubicBezTo>
              </a:path>
              <a:path w="1936" h="497">
                <a:moveTo>
                  <a:pt x="15007" y="4638"/>
                </a:moveTo>
                <a:cubicBezTo>
                  <a:pt x="15007" y="4603"/>
                  <a:pt x="14994" y="4558"/>
                  <a:pt x="15032" y="4539"/>
                </a:cubicBezTo>
                <a:cubicBezTo>
                  <a:pt x="15071" y="4519"/>
                  <a:pt x="15133" y="4476"/>
                  <a:pt x="15180" y="4465"/>
                </a:cubicBezTo>
                <a:cubicBezTo>
                  <a:pt x="15235" y="4453"/>
                  <a:pt x="15387" y="4448"/>
                  <a:pt x="15429" y="4490"/>
                </a:cubicBezTo>
                <a:cubicBezTo>
                  <a:pt x="15469" y="4530"/>
                  <a:pt x="15542" y="4628"/>
                  <a:pt x="15553" y="4688"/>
                </a:cubicBezTo>
                <a:cubicBezTo>
                  <a:pt x="15565" y="4758"/>
                  <a:pt x="15511" y="4873"/>
                  <a:pt x="15453" y="4911"/>
                </a:cubicBezTo>
                <a:cubicBezTo>
                  <a:pt x="15383" y="4956"/>
                  <a:pt x="15261" y="4980"/>
                  <a:pt x="15180" y="4961"/>
                </a:cubicBezTo>
                <a:cubicBezTo>
                  <a:pt x="15094" y="4941"/>
                  <a:pt x="15009" y="4884"/>
                  <a:pt x="14957" y="4812"/>
                </a:cubicBezTo>
                <a:cubicBezTo>
                  <a:pt x="14928" y="4772"/>
                  <a:pt x="14913" y="4662"/>
                  <a:pt x="14932" y="4614"/>
                </a:cubicBezTo>
                <a:cubicBezTo>
                  <a:pt x="14952" y="4562"/>
                  <a:pt x="15044" y="4562"/>
                  <a:pt x="15081" y="45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9:40:36Z</dcterms:created>
  <dc:creator>N Holden</dc:creator>
  <dc:description/>
  <dc:language>en-US</dc:language>
  <cp:lastModifiedBy>N Holden</cp:lastModifiedBy>
  <dcterms:modified xsi:type="dcterms:W3CDTF">2009-03-20T18:49:47Z</dcterms:modified>
  <cp:revision>5</cp:revision>
  <dc:subject/>
  <dc:title>IGCSE Revision Lesson 9</dc:title>
</cp:coreProperties>
</file>